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828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dt" idx="2"/>
          </p:nvPr>
        </p:nvSpPr>
        <p:spPr>
          <a:xfrm>
            <a:off x="3892680" y="-1440"/>
            <a:ext cx="297792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Img"/>
          </p:nvPr>
        </p:nvSpPr>
        <p:spPr>
          <a:xfrm>
            <a:off x="987120" y="734760"/>
            <a:ext cx="4894200" cy="367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ftr" idx="3"/>
          </p:nvPr>
        </p:nvSpPr>
        <p:spPr>
          <a:xfrm>
            <a:off x="-360" y="9302760"/>
            <a:ext cx="297828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 type="sldNum" idx="4"/>
          </p:nvPr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B2A4902-BC53-4CA9-BD73-90D0E36AA3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92680" y="9302760"/>
            <a:ext cx="29779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029C0E9-5DCF-48C6-927C-9E7BA20E080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988920" y="73512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650840"/>
            <a:ext cx="5113440" cy="44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AF08C-9548-4DD3-8FEE-3725FD6D5C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2BCA-B01E-4FBB-978F-6D112F9F6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C2B7-2639-4126-A458-C1AE3AC6CD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C5886-FFDE-4904-82A4-2B5532E716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9F36-2E1D-4E13-B1B7-2E2DEC4ED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1442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748840" y="148428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928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1442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748840" y="4042800"/>
            <a:ext cx="248040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B9FDD-BA48-4E37-B743-DA7D61D4CC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6CBB-8789-44A1-BD34-D4DF729FA5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F90DA-E090-405A-8B6E-D1B4F7B27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274680"/>
            <a:ext cx="77043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CDB3F-1E8A-4DF8-950A-48B1E8674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9FB8A-70AB-412C-88D5-BB9731828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87040" y="404280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EC0E2-9774-4D41-92B2-4E0308A41E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7040" y="1484280"/>
            <a:ext cx="375948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280" y="4042800"/>
            <a:ext cx="7704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188FE-3E2C-49E2-BCDF-94017FA06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7D47-EFAB-48CC-ADF4-F1C5A93B03C1}" type="slidenum">
              <a:rPr b="0" lang="de-DE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Freeform 6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Group 7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5" name="Rectangle 8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4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5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6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7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8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9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20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1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2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3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4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5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6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7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8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9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30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1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2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3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4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5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6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7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8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9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40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1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2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3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4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5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6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7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Line 48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9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0" descr="ProMaqua_Logo_cmyk"/>
          <p:cNvPicPr/>
          <p:nvPr/>
        </p:nvPicPr>
        <p:blipFill>
          <a:blip r:embed="rId2"/>
          <a:stretch/>
        </p:blipFill>
        <p:spPr>
          <a:xfrm>
            <a:off x="8564400" y="139680"/>
            <a:ext cx="320760" cy="114444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1"/>
          <p:cNvSpPr/>
          <p:nvPr/>
        </p:nvSpPr>
        <p:spPr>
          <a:xfrm>
            <a:off x="468360" y="6669000"/>
            <a:ext cx="205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Verdana"/>
              </a:rPr>
              <a:t>Dr. Rothe, 11.12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2"/>
          <p:cNvSpPr/>
          <p:nvPr/>
        </p:nvSpPr>
        <p:spPr>
          <a:xfrm>
            <a:off x="6659640" y="6676920"/>
            <a:ext cx="1690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599C-7FCE-483C-9971-031D42647C20}" type="slidenum">
              <a:rPr b="0" lang="de-DE" sz="9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2"/>
          <p:cNvSpPr/>
          <p:nvPr/>
        </p:nvSpPr>
        <p:spPr>
          <a:xfrm>
            <a:off x="633240" y="105264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3"/>
          <p:cNvSpPr/>
          <p:nvPr/>
        </p:nvSpPr>
        <p:spPr>
          <a:xfrm>
            <a:off x="0" y="6669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6"/>
          <p:cNvGrpSpPr/>
          <p:nvPr/>
        </p:nvGrpSpPr>
        <p:grpSpPr>
          <a:xfrm>
            <a:off x="5937120" y="1100160"/>
            <a:ext cx="2233440" cy="122040"/>
            <a:chOff x="5937120" y="1100160"/>
            <a:chExt cx="2233440" cy="122040"/>
          </a:xfrm>
        </p:grpSpPr>
        <p:sp>
          <p:nvSpPr>
            <p:cNvPr id="89" name="Rectangle 7"/>
            <p:cNvSpPr/>
            <p:nvPr/>
          </p:nvSpPr>
          <p:spPr>
            <a:xfrm>
              <a:off x="5937120" y="110016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8"/>
            <p:cNvSpPr/>
            <p:nvPr/>
          </p:nvSpPr>
          <p:spPr>
            <a:xfrm>
              <a:off x="599940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x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9"/>
            <p:cNvSpPr/>
            <p:nvPr/>
          </p:nvSpPr>
          <p:spPr>
            <a:xfrm>
              <a:off x="60595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0"/>
            <p:cNvSpPr/>
            <p:nvPr/>
          </p:nvSpPr>
          <p:spPr>
            <a:xfrm>
              <a:off x="6123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1"/>
            <p:cNvSpPr/>
            <p:nvPr/>
          </p:nvSpPr>
          <p:spPr>
            <a:xfrm>
              <a:off x="618336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6225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6267240" y="1100160"/>
              <a:ext cx="51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4"/>
            <p:cNvSpPr/>
            <p:nvPr/>
          </p:nvSpPr>
          <p:spPr>
            <a:xfrm>
              <a:off x="63237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5"/>
            <p:cNvSpPr/>
            <p:nvPr/>
          </p:nvSpPr>
          <p:spPr>
            <a:xfrm>
              <a:off x="6349320" y="1100160"/>
              <a:ext cx="31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637668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7"/>
            <p:cNvSpPr/>
            <p:nvPr/>
          </p:nvSpPr>
          <p:spPr>
            <a:xfrm>
              <a:off x="6444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8"/>
            <p:cNvSpPr/>
            <p:nvPr/>
          </p:nvSpPr>
          <p:spPr>
            <a:xfrm>
              <a:off x="6471360" y="1100160"/>
              <a:ext cx="6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C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9"/>
            <p:cNvSpPr/>
            <p:nvPr/>
          </p:nvSpPr>
          <p:spPr>
            <a:xfrm>
              <a:off x="65433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20"/>
            <p:cNvSpPr/>
            <p:nvPr/>
          </p:nvSpPr>
          <p:spPr>
            <a:xfrm>
              <a:off x="66088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21"/>
            <p:cNvSpPr/>
            <p:nvPr/>
          </p:nvSpPr>
          <p:spPr>
            <a:xfrm>
              <a:off x="66679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22"/>
            <p:cNvSpPr/>
            <p:nvPr/>
          </p:nvSpPr>
          <p:spPr>
            <a:xfrm>
              <a:off x="6772680" y="11001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6813360" y="11001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24"/>
            <p:cNvSpPr/>
            <p:nvPr/>
          </p:nvSpPr>
          <p:spPr>
            <a:xfrm>
              <a:off x="6874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25"/>
            <p:cNvSpPr/>
            <p:nvPr/>
          </p:nvSpPr>
          <p:spPr>
            <a:xfrm>
              <a:off x="69361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26"/>
            <p:cNvSpPr/>
            <p:nvPr/>
          </p:nvSpPr>
          <p:spPr>
            <a:xfrm>
              <a:off x="699624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27"/>
            <p:cNvSpPr/>
            <p:nvPr/>
          </p:nvSpPr>
          <p:spPr>
            <a:xfrm>
              <a:off x="706536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28"/>
            <p:cNvSpPr/>
            <p:nvPr/>
          </p:nvSpPr>
          <p:spPr>
            <a:xfrm>
              <a:off x="70916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9"/>
            <p:cNvSpPr/>
            <p:nvPr/>
          </p:nvSpPr>
          <p:spPr>
            <a:xfrm>
              <a:off x="715140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30"/>
            <p:cNvSpPr/>
            <p:nvPr/>
          </p:nvSpPr>
          <p:spPr>
            <a:xfrm>
              <a:off x="7216920" y="1100160"/>
              <a:ext cx="64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31"/>
            <p:cNvSpPr/>
            <p:nvPr/>
          </p:nvSpPr>
          <p:spPr>
            <a:xfrm>
              <a:off x="728424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32"/>
            <p:cNvSpPr/>
            <p:nvPr/>
          </p:nvSpPr>
          <p:spPr>
            <a:xfrm>
              <a:off x="7319520" y="1100160"/>
              <a:ext cx="99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33"/>
            <p:cNvSpPr/>
            <p:nvPr/>
          </p:nvSpPr>
          <p:spPr>
            <a:xfrm>
              <a:off x="741852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4"/>
            <p:cNvSpPr/>
            <p:nvPr/>
          </p:nvSpPr>
          <p:spPr>
            <a:xfrm>
              <a:off x="74761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5"/>
            <p:cNvSpPr/>
            <p:nvPr/>
          </p:nvSpPr>
          <p:spPr>
            <a:xfrm>
              <a:off x="751716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6"/>
            <p:cNvSpPr/>
            <p:nvPr/>
          </p:nvSpPr>
          <p:spPr>
            <a:xfrm>
              <a:off x="757692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7"/>
            <p:cNvSpPr/>
            <p:nvPr/>
          </p:nvSpPr>
          <p:spPr>
            <a:xfrm>
              <a:off x="7622280" y="1100160"/>
              <a:ext cx="2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38"/>
            <p:cNvSpPr/>
            <p:nvPr/>
          </p:nvSpPr>
          <p:spPr>
            <a:xfrm>
              <a:off x="7652520" y="1100160"/>
              <a:ext cx="60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39"/>
            <p:cNvSpPr/>
            <p:nvPr/>
          </p:nvSpPr>
          <p:spPr>
            <a:xfrm>
              <a:off x="7704000" y="1100160"/>
              <a:ext cx="4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0"/>
            <p:cNvSpPr/>
            <p:nvPr/>
          </p:nvSpPr>
          <p:spPr>
            <a:xfrm>
              <a:off x="774720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"/>
            <p:cNvSpPr/>
            <p:nvPr/>
          </p:nvSpPr>
          <p:spPr>
            <a:xfrm>
              <a:off x="780768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2"/>
            <p:cNvSpPr/>
            <p:nvPr/>
          </p:nvSpPr>
          <p:spPr>
            <a:xfrm>
              <a:off x="786672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3"/>
            <p:cNvSpPr/>
            <p:nvPr/>
          </p:nvSpPr>
          <p:spPr>
            <a:xfrm>
              <a:off x="7904520" y="1100160"/>
              <a:ext cx="101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4"/>
            <p:cNvSpPr/>
            <p:nvPr/>
          </p:nvSpPr>
          <p:spPr>
            <a:xfrm>
              <a:off x="8004240" y="1100160"/>
              <a:ext cx="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5"/>
            <p:cNvSpPr/>
            <p:nvPr/>
          </p:nvSpPr>
          <p:spPr>
            <a:xfrm>
              <a:off x="8062560" y="1100160"/>
              <a:ext cx="67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6"/>
            <p:cNvSpPr/>
            <p:nvPr/>
          </p:nvSpPr>
          <p:spPr>
            <a:xfrm>
              <a:off x="8125560" y="1100160"/>
              <a:ext cx="45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ffffff"/>
                  </a:solidFill>
                  <a:latin typeface="Helvetica 55 Roman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47"/>
          <p:cNvSpPr/>
          <p:nvPr/>
        </p:nvSpPr>
        <p:spPr>
          <a:xfrm>
            <a:off x="0" y="126828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48"/>
          <p:cNvSpPr/>
          <p:nvPr/>
        </p:nvSpPr>
        <p:spPr>
          <a:xfrm>
            <a:off x="633240" y="3206880"/>
            <a:ext cx="7610760" cy="222120"/>
          </a:xfrm>
          <a:prstGeom prst="pie">
            <a:avLst/>
          </a:prstGeom>
          <a:solidFill>
            <a:srgbClr val="0d2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49"/>
          <p:cNvSpPr/>
          <p:nvPr/>
        </p:nvSpPr>
        <p:spPr>
          <a:xfrm>
            <a:off x="0" y="3213000"/>
            <a:ext cx="8244000" cy="0"/>
          </a:xfrm>
          <a:prstGeom prst="line">
            <a:avLst/>
          </a:prstGeom>
          <a:ln w="19080">
            <a:solidFill>
              <a:srgbClr val="ec7c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0" descr="ProMaqua_Logo_cmyk"/>
          <p:cNvPicPr/>
          <p:nvPr/>
        </p:nvPicPr>
        <p:blipFill>
          <a:blip r:embed="rId2"/>
          <a:stretch/>
        </p:blipFill>
        <p:spPr>
          <a:xfrm>
            <a:off x="8564400" y="139680"/>
            <a:ext cx="320760" cy="1144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1" descr=""/>
          <p:cNvPicPr/>
          <p:nvPr/>
        </p:nvPicPr>
        <p:blipFill>
          <a:blip r:embed="rId3"/>
          <a:stretch/>
        </p:blipFill>
        <p:spPr>
          <a:xfrm>
            <a:off x="5638680" y="1273320"/>
            <a:ext cx="2595600" cy="1933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2" descr=""/>
          <p:cNvPicPr/>
          <p:nvPr/>
        </p:nvPicPr>
        <p:blipFill>
          <a:blip r:embed="rId4"/>
          <a:stretch/>
        </p:blipFill>
        <p:spPr>
          <a:xfrm>
            <a:off x="633240" y="1276200"/>
            <a:ext cx="2417760" cy="1930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3" descr=""/>
          <p:cNvPicPr/>
          <p:nvPr/>
        </p:nvPicPr>
        <p:blipFill>
          <a:blip r:embed="rId5"/>
          <a:stretch/>
        </p:blipFill>
        <p:spPr>
          <a:xfrm>
            <a:off x="3067200" y="1274760"/>
            <a:ext cx="2555640" cy="19321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550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4960" indent="-265320">
              <a:spcBef>
                <a:spcPts val="550"/>
              </a:spcBef>
              <a:buClr>
                <a:srgbClr val="ec7c1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7144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649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6496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44680" y="-432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ClO</a:t>
            </a:r>
            <a:r>
              <a:rPr b="1" lang="en-GB" sz="28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-Generators Bello Zon</a:t>
            </a:r>
            <a:r>
              <a:rPr b="1" lang="en-GB" sz="2800" spc="-1" strike="noStrike" baseline="30000">
                <a:solidFill>
                  <a:srgbClr val="000000"/>
                </a:solidFill>
                <a:latin typeface="Arial"/>
              </a:rPr>
              <a:t>®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CDV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43000" y="3911400"/>
            <a:ext cx="67816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Matthias Rot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oMaqua GmbH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aßstraße 32/1, D-69123 Heidelbe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l. +49 (6221) 6489-0, Fax. +49 (6221) 6489-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.rothe@promaqua.com    www.ProMaqu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Auxiliary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104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s controller for intermediate storage tanks: Batch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s measurement and control unit: Dos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Ausbaumodell_2"/>
          <p:cNvPicPr/>
          <p:nvPr/>
        </p:nvPicPr>
        <p:blipFill>
          <a:blip r:embed="rId1"/>
          <a:stretch/>
        </p:blipFill>
        <p:spPr>
          <a:xfrm>
            <a:off x="900000" y="2874960"/>
            <a:ext cx="6815160" cy="3762360"/>
          </a:xfrm>
          <a:prstGeom prst="rect">
            <a:avLst/>
          </a:prstGeom>
          <a:ln w="0">
            <a:noFill/>
          </a:ln>
        </p:spPr>
      </p:pic>
      <p:sp>
        <p:nvSpPr>
          <p:cNvPr id="240" name="Datumsplatzhalt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al Auxiliary Modu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389240"/>
            <a:ext cx="7890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gio Zon-housing (D1C-display und -keypa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 of functionality Batch/DosControl via internal jum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eet with labels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sControl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Control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de-ID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la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Grafik 6" descr="Zusatzmodul.JPG"/>
          <p:cNvPicPr/>
          <p:nvPr/>
        </p:nvPicPr>
        <p:blipFill>
          <a:blip r:embed="rId1"/>
          <a:stretch/>
        </p:blipFill>
        <p:spPr>
          <a:xfrm>
            <a:off x="3286080" y="2357280"/>
            <a:ext cx="5619960" cy="4214880"/>
          </a:xfrm>
          <a:prstGeom prst="rect">
            <a:avLst/>
          </a:prstGeom>
          <a:ln w="0">
            <a:noFill/>
          </a:ln>
        </p:spPr>
      </p:pic>
      <p:sp>
        <p:nvSpPr>
          <p:cNvPr id="244" name="Datumsplatzhalt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274680"/>
            <a:ext cx="80596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o Zon BatchControl: Controller Storage Tan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640" y="1413000"/>
            <a:ext cx="807408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as separate control unit for intermediate storage tan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inputs for level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us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 solenoid valve dilution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 solenoid valves ClO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for control of pneumatic valve for air supply of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neumatic p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25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arm relay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al communication interface for commercial modu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 for failure message via SM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o Zon DosControl :  Measu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539640" y="1413000"/>
            <a:ext cx="7920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on of up to 14 modules in the central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ment / documentation in the central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 settings in the central 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bration of probes in the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asurement parameter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lorine dioxide and chlorite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mA-sensors, not CAN-Sensors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x potential (mV) and pH (m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 (PT 100 or 1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in-/outputs: pause, measurement water, operation relay, failure rel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communication interface for commercial modul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 for failure message via S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llo Zon DosControl :  Dosage of ClO</a:t>
            </a:r>
            <a:r>
              <a:rPr b="1" lang="en-US" sz="24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539640" y="1413000"/>
            <a:ext cx="78264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ministration of up to 14 modules in the central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D controller for chlorine di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 ClO</a:t>
            </a:r>
            <a:r>
              <a:rPr b="0" lang="en-US" sz="22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pump or ClO</a:t>
            </a:r>
            <a:r>
              <a:rPr b="0" lang="en-US" sz="22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val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urther in-/outputs: pause, measurement water, operation relay, failure relay, basic lo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1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versal communication interface for commercial modules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e.g. for failure message via SM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code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119160" y="1285920"/>
            <a:ext cx="8775720" cy="5214960"/>
          </a:xfrm>
          <a:prstGeom prst="rect">
            <a:avLst/>
          </a:prstGeom>
          <a:ln w="0">
            <a:noFill/>
          </a:ln>
        </p:spPr>
      </p:pic>
      <p:grpSp>
        <p:nvGrpSpPr>
          <p:cNvPr id="256" name="Gruppieren 14"/>
          <p:cNvGrpSpPr/>
          <p:nvPr/>
        </p:nvGrpSpPr>
        <p:grpSpPr>
          <a:xfrm>
            <a:off x="428760" y="1357200"/>
            <a:ext cx="8439120" cy="1071720"/>
            <a:chOff x="428760" y="1357200"/>
            <a:chExt cx="8439120" cy="1071720"/>
          </a:xfrm>
        </p:grpSpPr>
        <p:sp>
          <p:nvSpPr>
            <p:cNvPr id="257" name="Ellipse 23"/>
            <p:cNvSpPr/>
            <p:nvPr/>
          </p:nvSpPr>
          <p:spPr>
            <a:xfrm>
              <a:off x="428760" y="1357200"/>
              <a:ext cx="432360" cy="107172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feld 24"/>
            <p:cNvSpPr/>
            <p:nvPr/>
          </p:nvSpPr>
          <p:spPr>
            <a:xfrm>
              <a:off x="4000320" y="1571400"/>
              <a:ext cx="4867560" cy="39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type and capac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Gerade Verbindung 25"/>
            <p:cNvSpPr/>
            <p:nvPr/>
          </p:nvSpPr>
          <p:spPr>
            <a:xfrm flipH="1">
              <a:off x="860760" y="1770840"/>
              <a:ext cx="3138840" cy="1213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uppieren 17"/>
          <p:cNvGrpSpPr/>
          <p:nvPr/>
        </p:nvGrpSpPr>
        <p:grpSpPr>
          <a:xfrm>
            <a:off x="1285920" y="2357280"/>
            <a:ext cx="7581960" cy="4468320"/>
            <a:chOff x="1285920" y="2357280"/>
            <a:chExt cx="7581960" cy="4468320"/>
          </a:xfrm>
        </p:grpSpPr>
        <p:sp>
          <p:nvSpPr>
            <p:cNvPr id="261" name="Ellipse 23"/>
            <p:cNvSpPr/>
            <p:nvPr/>
          </p:nvSpPr>
          <p:spPr>
            <a:xfrm>
              <a:off x="1285920" y="2714400"/>
              <a:ext cx="432360" cy="73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feld 24"/>
            <p:cNvSpPr/>
            <p:nvPr/>
          </p:nvSpPr>
          <p:spPr>
            <a:xfrm>
              <a:off x="4000320" y="2357280"/>
              <a:ext cx="4867560" cy="4468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power supply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U  100-230 V, 50/60 Hz for all types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ithou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bypass for storage module with water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supply 230 V, reactor housing or integrated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bypass pump due to the solenoid valves 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and pump 23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   230 V, 50/60 Hz for all types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ith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integrated bypass pump, reactor hous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or bypass for  storage module with water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supply 230 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  100-115 V, 50/60 Hz for all types </a:t>
              </a: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without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integrated bypass pump or bypass for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storage module with water supply 230 V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(pump and solenoid valve 230 V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Gerade Verbindung 25"/>
            <p:cNvSpPr/>
            <p:nvPr/>
          </p:nvSpPr>
          <p:spPr>
            <a:xfrm flipH="1" flipV="1">
              <a:off x="1718280" y="3083760"/>
              <a:ext cx="2281680" cy="13896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code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8775720" cy="5214960"/>
          </a:xfrm>
          <a:prstGeom prst="rect">
            <a:avLst/>
          </a:prstGeom>
          <a:ln w="0">
            <a:noFill/>
          </a:ln>
        </p:spPr>
      </p:pic>
      <p:grpSp>
        <p:nvGrpSpPr>
          <p:cNvPr id="266" name="Gruppieren 11"/>
          <p:cNvGrpSpPr/>
          <p:nvPr/>
        </p:nvGrpSpPr>
        <p:grpSpPr>
          <a:xfrm>
            <a:off x="1781280" y="1500120"/>
            <a:ext cx="7086600" cy="4635720"/>
            <a:chOff x="1781280" y="1500120"/>
            <a:chExt cx="7086600" cy="4635720"/>
          </a:xfrm>
        </p:grpSpPr>
        <p:sp>
          <p:nvSpPr>
            <p:cNvPr id="267" name="Ellipse 23"/>
            <p:cNvSpPr/>
            <p:nvPr/>
          </p:nvSpPr>
          <p:spPr>
            <a:xfrm>
              <a:off x="1781280" y="3429000"/>
              <a:ext cx="432360" cy="92844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feld 24"/>
            <p:cNvSpPr/>
            <p:nvPr/>
          </p:nvSpPr>
          <p:spPr>
            <a:xfrm>
              <a:off x="3999960" y="1500120"/>
              <a:ext cx="4867920" cy="4635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bypas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0  without e.g. as base for complet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pipework made of PVD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2  bypass PVC-U with float type flowmeter;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DN 25 at CDVc 20-600,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DN 40 at CDVc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4  bypass PVC-U DN 25 with float typ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flowmeter and stainless steel bypass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pump 230 V (CDVc 20-600,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6  bypass for ClO</a:t>
              </a:r>
              <a:r>
                <a:rPr b="0" lang="en-GB" sz="1800" spc="-1" strike="noStrike" baseline="-1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-storage tanks with water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supply module 230 V and smaller float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type flowmeter (CDVc 45-600,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7  like 06, but with water supply module 24 V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  (separate 24 V-supply require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Gerade Verbindung 25"/>
            <p:cNvSpPr/>
            <p:nvPr/>
          </p:nvSpPr>
          <p:spPr>
            <a:xfrm flipH="1">
              <a:off x="2213280" y="3692520"/>
              <a:ext cx="1785960" cy="1998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ypass for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lO</a:t>
            </a:r>
            <a:r>
              <a:rPr b="1" lang="en-GB" sz="24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-Storage Tan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39640" y="1357200"/>
            <a:ext cx="81043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 feed assembly for installations with intermediate ClO</a:t>
            </a:r>
            <a:r>
              <a:rPr b="0" lang="en-US" sz="20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at type flow meter in the bypass suitable for flow rates required to produce 500 – 1000 ppm ClO</a:t>
            </a:r>
            <a:r>
              <a:rPr b="0" lang="en-US" sz="1800" spc="-1" strike="noStrike" baseline="-1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0 V-version: solenoid valve to be directly connected to th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 V-version: interconnected transformer or relay required (accessory; transformer: part numb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1035156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99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zed storage tanks will follow during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Product management, Dr. Rothe, 03.06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Grafik 4" descr="wasserversorgung.jpg"/>
          <p:cNvPicPr/>
          <p:nvPr/>
        </p:nvPicPr>
        <p:blipFill>
          <a:blip r:embed="rId1"/>
          <a:stretch/>
        </p:blipFill>
        <p:spPr>
          <a:xfrm>
            <a:off x="857160" y="3714840"/>
            <a:ext cx="6715080" cy="2047680"/>
          </a:xfrm>
          <a:prstGeom prst="rect">
            <a:avLst/>
          </a:prstGeom>
          <a:ln w="0">
            <a:noFill/>
          </a:ln>
        </p:spPr>
      </p:pic>
      <p:grpSp>
        <p:nvGrpSpPr>
          <p:cNvPr id="274" name="Gruppieren 24"/>
          <p:cNvGrpSpPr/>
          <p:nvPr/>
        </p:nvGrpSpPr>
        <p:grpSpPr>
          <a:xfrm>
            <a:off x="928800" y="4857840"/>
            <a:ext cx="1785240" cy="1294200"/>
            <a:chOff x="928800" y="4857840"/>
            <a:chExt cx="1785240" cy="1294200"/>
          </a:xfrm>
        </p:grpSpPr>
        <p:sp>
          <p:nvSpPr>
            <p:cNvPr id="275" name="Textfeld 5"/>
            <p:cNvSpPr/>
            <p:nvPr/>
          </p:nvSpPr>
          <p:spPr>
            <a:xfrm>
              <a:off x="928800" y="5783760"/>
              <a:ext cx="107172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fil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Gerade Verbindung 11"/>
            <p:cNvSpPr/>
            <p:nvPr/>
          </p:nvSpPr>
          <p:spPr>
            <a:xfrm flipV="1">
              <a:off x="1463760" y="4857840"/>
              <a:ext cx="1250280" cy="925920"/>
            </a:xfrm>
            <a:prstGeom prst="line">
              <a:avLst/>
            </a:prstGeom>
            <a:ln cap="rnd"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uppieren 25"/>
          <p:cNvGrpSpPr/>
          <p:nvPr/>
        </p:nvGrpSpPr>
        <p:grpSpPr>
          <a:xfrm>
            <a:off x="2286000" y="4854240"/>
            <a:ext cx="1214280" cy="1571400"/>
            <a:chOff x="2286000" y="4854240"/>
            <a:chExt cx="1214280" cy="1571400"/>
          </a:xfrm>
        </p:grpSpPr>
        <p:sp>
          <p:nvSpPr>
            <p:cNvPr id="278" name="Textfeld 6"/>
            <p:cNvSpPr/>
            <p:nvPr/>
          </p:nvSpPr>
          <p:spPr>
            <a:xfrm>
              <a:off x="2286000" y="5783040"/>
              <a:ext cx="12142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ressure reduc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Gerade Verbindung 12"/>
            <p:cNvSpPr/>
            <p:nvPr/>
          </p:nvSpPr>
          <p:spPr>
            <a:xfrm flipV="1">
              <a:off x="2892240" y="4854240"/>
              <a:ext cx="392760" cy="928440"/>
            </a:xfrm>
            <a:prstGeom prst="line">
              <a:avLst/>
            </a:prstGeom>
            <a:ln cap="rnd"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uppieren 26"/>
          <p:cNvGrpSpPr/>
          <p:nvPr/>
        </p:nvGrpSpPr>
        <p:grpSpPr>
          <a:xfrm>
            <a:off x="3786120" y="4640400"/>
            <a:ext cx="1214640" cy="1782360"/>
            <a:chOff x="3786120" y="4640400"/>
            <a:chExt cx="1214640" cy="1782360"/>
          </a:xfrm>
        </p:grpSpPr>
        <p:sp>
          <p:nvSpPr>
            <p:cNvPr id="281" name="Textfeld 7"/>
            <p:cNvSpPr/>
            <p:nvPr/>
          </p:nvSpPr>
          <p:spPr>
            <a:xfrm>
              <a:off x="3786120" y="5780160"/>
              <a:ext cx="121464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solenoid val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Gerade Verbindung 15"/>
            <p:cNvSpPr/>
            <p:nvPr/>
          </p:nvSpPr>
          <p:spPr>
            <a:xfrm flipV="1">
              <a:off x="4393440" y="4640400"/>
              <a:ext cx="178560" cy="1139760"/>
            </a:xfrm>
            <a:prstGeom prst="line">
              <a:avLst/>
            </a:prstGeom>
            <a:ln cap="rnd"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uppieren 27"/>
          <p:cNvGrpSpPr/>
          <p:nvPr/>
        </p:nvGrpSpPr>
        <p:grpSpPr>
          <a:xfrm>
            <a:off x="5143680" y="5071680"/>
            <a:ext cx="1214280" cy="1353960"/>
            <a:chOff x="5143680" y="5071680"/>
            <a:chExt cx="1214280" cy="1353960"/>
          </a:xfrm>
        </p:grpSpPr>
        <p:sp>
          <p:nvSpPr>
            <p:cNvPr id="284" name="Textfeld 8"/>
            <p:cNvSpPr/>
            <p:nvPr/>
          </p:nvSpPr>
          <p:spPr>
            <a:xfrm>
              <a:off x="5143680" y="5783040"/>
              <a:ext cx="121428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water me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Gerade Verbindung 18"/>
            <p:cNvSpPr/>
            <p:nvPr/>
          </p:nvSpPr>
          <p:spPr>
            <a:xfrm flipH="1" flipV="1">
              <a:off x="5214960" y="5071680"/>
              <a:ext cx="535680" cy="711000"/>
            </a:xfrm>
            <a:prstGeom prst="line">
              <a:avLst/>
            </a:prstGeom>
            <a:ln cap="rnd"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uppieren 28"/>
          <p:cNvGrpSpPr/>
          <p:nvPr/>
        </p:nvGrpSpPr>
        <p:grpSpPr>
          <a:xfrm>
            <a:off x="6286680" y="4782600"/>
            <a:ext cx="1500120" cy="1639800"/>
            <a:chOff x="6286680" y="4782600"/>
            <a:chExt cx="1500120" cy="1639800"/>
          </a:xfrm>
        </p:grpSpPr>
        <p:sp>
          <p:nvSpPr>
            <p:cNvPr id="287" name="Textfeld 9"/>
            <p:cNvSpPr/>
            <p:nvPr/>
          </p:nvSpPr>
          <p:spPr>
            <a:xfrm>
              <a:off x="6572160" y="5779800"/>
              <a:ext cx="1214640" cy="642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needle val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Gerade Verbindung 21"/>
            <p:cNvSpPr/>
            <p:nvPr/>
          </p:nvSpPr>
          <p:spPr>
            <a:xfrm flipH="1" flipV="1">
              <a:off x="6286680" y="4782600"/>
              <a:ext cx="892800" cy="996840"/>
            </a:xfrm>
            <a:prstGeom prst="line">
              <a:avLst/>
            </a:prstGeom>
            <a:ln cap="rnd" w="2232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code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8775720" cy="5214960"/>
          </a:xfrm>
          <a:prstGeom prst="rect">
            <a:avLst/>
          </a:prstGeom>
          <a:ln w="0">
            <a:noFill/>
          </a:ln>
        </p:spPr>
      </p:pic>
      <p:grpSp>
        <p:nvGrpSpPr>
          <p:cNvPr id="291" name="Gruppieren 12"/>
          <p:cNvGrpSpPr/>
          <p:nvPr/>
        </p:nvGrpSpPr>
        <p:grpSpPr>
          <a:xfrm>
            <a:off x="2143080" y="2500200"/>
            <a:ext cx="6643800" cy="2786040"/>
            <a:chOff x="2143080" y="2500200"/>
            <a:chExt cx="6643800" cy="2786040"/>
          </a:xfrm>
        </p:grpSpPr>
        <p:grpSp>
          <p:nvGrpSpPr>
            <p:cNvPr id="292" name="Gruppieren 11"/>
            <p:cNvGrpSpPr/>
            <p:nvPr/>
          </p:nvGrpSpPr>
          <p:grpSpPr>
            <a:xfrm>
              <a:off x="2143080" y="2500200"/>
              <a:ext cx="6643800" cy="2786040"/>
              <a:chOff x="2143080" y="2500200"/>
              <a:chExt cx="6643800" cy="2786040"/>
            </a:xfrm>
          </p:grpSpPr>
          <p:sp>
            <p:nvSpPr>
              <p:cNvPr id="293" name="Ellipse 23"/>
              <p:cNvSpPr/>
              <p:nvPr/>
            </p:nvSpPr>
            <p:spPr>
              <a:xfrm>
                <a:off x="2143080" y="4357800"/>
                <a:ext cx="413280" cy="92844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feld 24"/>
              <p:cNvSpPr/>
              <p:nvPr/>
            </p:nvSpPr>
            <p:spPr>
              <a:xfrm>
                <a:off x="3449520" y="2500200"/>
                <a:ext cx="5337360" cy="1801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reactor housing with suction device: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0  without, without calibration de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1  without, with calibration devi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2  with, without calibration devic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 power supp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Aft>
                    <a:spcPts val="6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3  with, with calibration device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 A or B, on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Gerade Verbindung 25"/>
              <p:cNvSpPr/>
              <p:nvPr/>
            </p:nvSpPr>
            <p:spPr>
              <a:xfrm flipH="1">
                <a:off x="2556360" y="3407400"/>
                <a:ext cx="892800" cy="14137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" name="Geschweifte Klammer rechts 11"/>
            <p:cNvSpPr/>
            <p:nvPr/>
          </p:nvSpPr>
          <p:spPr>
            <a:xfrm>
              <a:off x="6929640" y="3643200"/>
              <a:ext cx="214200" cy="642960"/>
            </a:xfrm>
            <a:custGeom>
              <a:avLst/>
              <a:gdLst>
                <a:gd name="textAreaLeft" fmla="*/ 0 w 214200"/>
                <a:gd name="textAreaRight" fmla="*/ 77400 w 214200"/>
                <a:gd name="textAreaTop" fmla="*/ 5400 h 642960"/>
                <a:gd name="textAreaBottom" fmla="*/ 63756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300"/>
                    <a:pt x="10800" y="600"/>
                  </a:cubicBezTo>
                  <a:lnTo>
                    <a:pt x="10800" y="10200"/>
                  </a:lnTo>
                  <a:cubicBezTo>
                    <a:pt x="10800" y="10500"/>
                    <a:pt x="16200" y="10800"/>
                    <a:pt x="21600" y="10800"/>
                  </a:cubicBezTo>
                  <a:cubicBezTo>
                    <a:pt x="16200" y="10800"/>
                    <a:pt x="10800" y="11100"/>
                    <a:pt x="10800" y="11400"/>
                  </a:cubicBezTo>
                  <a:lnTo>
                    <a:pt x="10800" y="21000"/>
                  </a:lnTo>
                  <a:cubicBezTo>
                    <a:pt x="10800" y="213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uppieren 13"/>
          <p:cNvGrpSpPr/>
          <p:nvPr/>
        </p:nvGrpSpPr>
        <p:grpSpPr>
          <a:xfrm>
            <a:off x="2571840" y="5214960"/>
            <a:ext cx="6224400" cy="1374480"/>
            <a:chOff x="2571840" y="5214960"/>
            <a:chExt cx="6224400" cy="1374480"/>
          </a:xfrm>
        </p:grpSpPr>
        <p:sp>
          <p:nvSpPr>
            <p:cNvPr id="298" name="Ellipse 23"/>
            <p:cNvSpPr/>
            <p:nvPr/>
          </p:nvSpPr>
          <p:spPr>
            <a:xfrm>
              <a:off x="2571840" y="5214960"/>
              <a:ext cx="432360" cy="107100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feld 24"/>
            <p:cNvSpPr/>
            <p:nvPr/>
          </p:nvSpPr>
          <p:spPr>
            <a:xfrm>
              <a:off x="3929040" y="5214960"/>
              <a:ext cx="4867200" cy="1374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suction lances / assembli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via identcode available for CDVc 20-6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level switches (round plug, only) have to be 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connected directly to the pump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Gerade Verbindung 25"/>
            <p:cNvSpPr/>
            <p:nvPr/>
          </p:nvSpPr>
          <p:spPr>
            <a:xfrm flipH="1" flipV="1">
              <a:off x="3004200" y="5749920"/>
              <a:ext cx="924480" cy="1566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dentcode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357120" y="1285920"/>
            <a:ext cx="8643960" cy="44290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uppieren 4"/>
          <p:cNvGrpSpPr/>
          <p:nvPr/>
        </p:nvGrpSpPr>
        <p:grpSpPr>
          <a:xfrm>
            <a:off x="306000" y="1285920"/>
            <a:ext cx="4194360" cy="2288520"/>
            <a:chOff x="306000" y="1285920"/>
            <a:chExt cx="4194360" cy="2288520"/>
          </a:xfrm>
        </p:grpSpPr>
        <p:sp>
          <p:nvSpPr>
            <p:cNvPr id="304" name="Ellipse 23"/>
            <p:cNvSpPr/>
            <p:nvPr/>
          </p:nvSpPr>
          <p:spPr>
            <a:xfrm flipH="1">
              <a:off x="4235400" y="2357640"/>
              <a:ext cx="264960" cy="7383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feld 24"/>
            <p:cNvSpPr/>
            <p:nvPr/>
          </p:nvSpPr>
          <p:spPr>
            <a:xfrm flipH="1">
              <a:off x="305640" y="1285920"/>
              <a:ext cx="3572280" cy="2288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control feature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  base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  with measurement of ClO</a:t>
              </a:r>
              <a:r>
                <a:rPr b="0" lang="en-GB" sz="1800" spc="-1" strike="noStrike" baseline="-1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and chlorite and PID-control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 like 1, but with data logger and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screen record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Gerade Verbindung 25"/>
            <p:cNvSpPr/>
            <p:nvPr/>
          </p:nvSpPr>
          <p:spPr>
            <a:xfrm>
              <a:off x="3878280" y="2293920"/>
              <a:ext cx="357120" cy="43272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Gruppieren 11"/>
          <p:cNvGrpSpPr/>
          <p:nvPr/>
        </p:nvGrpSpPr>
        <p:grpSpPr>
          <a:xfrm>
            <a:off x="306000" y="3214800"/>
            <a:ext cx="8480520" cy="3364920"/>
            <a:chOff x="306000" y="3214800"/>
            <a:chExt cx="8480520" cy="3364920"/>
          </a:xfrm>
        </p:grpSpPr>
        <p:sp>
          <p:nvSpPr>
            <p:cNvPr id="308" name="Ellipse 23"/>
            <p:cNvSpPr/>
            <p:nvPr/>
          </p:nvSpPr>
          <p:spPr>
            <a:xfrm flipH="1">
              <a:off x="4642920" y="3214800"/>
              <a:ext cx="264960" cy="857160"/>
            </a:xfrm>
            <a:prstGeom prst="ellipse">
              <a:avLst/>
            </a:prstGeom>
            <a:noFill/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feld 24"/>
            <p:cNvSpPr/>
            <p:nvPr/>
          </p:nvSpPr>
          <p:spPr>
            <a:xfrm flipH="1">
              <a:off x="305640" y="4214880"/>
              <a:ext cx="8480520" cy="23648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in- and outputs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  standard: 4 digital inputs for pause or high-dosage, leakage, external fault and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sample water, 1 contact or frequency input water me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  two analogue inputs 0/4-20 mA, free configurable for for amperometric probes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   (ClO</a:t>
              </a:r>
              <a:r>
                <a:rPr b="0" lang="en-GB" sz="1800" spc="-1" strike="noStrike" baseline="-1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or chlorite), actuating variable or f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  analogue output 0/4-20 mA, free configurabl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  combination of features 1 and 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Gerade Verbindung 25"/>
            <p:cNvSpPr/>
            <p:nvPr/>
          </p:nvSpPr>
          <p:spPr>
            <a:xfrm flipV="1">
              <a:off x="4546440" y="4071960"/>
              <a:ext cx="228960" cy="142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w Features of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9280" y="138924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ique plant for production, dosage and measurement of chlorine diox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ler with integrated measurement of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lorine dioxide and/or chlor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1199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entral administration of up to 14 dosing and measurement po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Aft>
                <a:spcPts val="1199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ctor and reactor outlet made of PVD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mical feed pumps with stroke length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calculation of the capacity after changing the strok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1199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message at accidental changing of the strok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mple and safe operation and servi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ing menu with plaintext advices and data lo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calibration assemb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2800" indent="-267120"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d number of wear and t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"/>
          <p:cNvSpPr/>
          <p:nvPr/>
        </p:nvSpPr>
        <p:spPr>
          <a:xfrm>
            <a:off x="539640" y="1500120"/>
            <a:ext cx="770436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lushing assemb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 of delivery as important safety feature (required for commissioning), no separate order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ent valve as vacuum breaker in the bypass pi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cope of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 to be ordered separately via part number 1001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ck pressure valve DHV-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for bypass without back pres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 25: part number 1000050 (CDVc 20-6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N 40: part number 1000052 (CDVc 2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100000"/>
              </a:lnSpc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spcAft>
                <a:spcPts val="180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se version: same pricing such as with CDVb or CDVa, price advantage with several advanced ver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82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45 g-plant with pause and analogue in-/outp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75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DVb1A00313D110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€    9.854,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75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Vc04PU02000DE03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9.536,00 (without reactor hou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Vc04PA02200DE03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0.056,00 (with reactor hou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82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.g. 45 g-plant with measurement and control feat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75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DVb1A00313D110 + D1C: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€  10.883,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75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Vc04PU02000DE13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0.211,00 (without reactor hou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675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Vc04PA02200DE13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€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10.731,00 (with reactor hous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0">
              <a:spcBef>
                <a:spcPts val="451"/>
              </a:spcBef>
              <a:spcAft>
                <a:spcPts val="6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hedule Avail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9640" y="1642680"/>
            <a:ext cx="77774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DVc without communication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 – 240 g/h: January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00 g/h: spring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0 g/h: summer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DKc without communication interfa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p to 900 g/h: mid 2009, larger plants by end of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xiliary modules BatchControl and Dos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1800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id of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8480" indent="-258480">
              <a:spcBef>
                <a:spcPts val="550"/>
              </a:spcBef>
              <a:spcAft>
                <a:spcPts val="601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mmunication interfaces such as LAN, Profibus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22000" indent="-261720">
              <a:spcBef>
                <a:spcPts val="451"/>
              </a:spcBef>
              <a:spcAft>
                <a:spcPts val="6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tumn 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Datumsplatzhalter 4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5.11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3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ank you for your atten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39280" y="3544920"/>
            <a:ext cx="770436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Arial"/>
              </a:rPr>
              <a:t>Any question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0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CDVc 02_06  15_120g_h 2007_12_19"/>
          <p:cNvPicPr/>
          <p:nvPr/>
        </p:nvPicPr>
        <p:blipFill>
          <a:blip r:embed="rId1"/>
          <a:stretch/>
        </p:blipFill>
        <p:spPr>
          <a:xfrm>
            <a:off x="2556000" y="1447920"/>
            <a:ext cx="3990960" cy="495288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llo Zon CDVc for Diluted Chemic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179280" y="2287440"/>
            <a:ext cx="4032360" cy="925560"/>
            <a:chOff x="179280" y="2287440"/>
            <a:chExt cx="4032360" cy="925560"/>
          </a:xfrm>
        </p:grpSpPr>
        <p:sp>
          <p:nvSpPr>
            <p:cNvPr id="189" name="Line 5"/>
            <p:cNvSpPr/>
            <p:nvPr/>
          </p:nvSpPr>
          <p:spPr>
            <a:xfrm flipV="1">
              <a:off x="2268360" y="2637000"/>
              <a:ext cx="1943280" cy="7128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6"/>
            <p:cNvSpPr/>
            <p:nvPr/>
          </p:nvSpPr>
          <p:spPr>
            <a:xfrm>
              <a:off x="179280" y="2287440"/>
              <a:ext cx="2124360" cy="9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PVDF reactor and reactor-outl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7"/>
          <p:cNvGrpSpPr/>
          <p:nvPr/>
        </p:nvGrpSpPr>
        <p:grpSpPr>
          <a:xfrm>
            <a:off x="179280" y="2781000"/>
            <a:ext cx="3816360" cy="1584720"/>
            <a:chOff x="179280" y="2781000"/>
            <a:chExt cx="3816360" cy="1584720"/>
          </a:xfrm>
        </p:grpSpPr>
        <p:sp>
          <p:nvSpPr>
            <p:cNvPr id="192" name="Line 8"/>
            <p:cNvSpPr/>
            <p:nvPr/>
          </p:nvSpPr>
          <p:spPr>
            <a:xfrm flipV="1">
              <a:off x="2268360" y="2781000"/>
              <a:ext cx="1727280" cy="115236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9"/>
            <p:cNvSpPr/>
            <p:nvPr/>
          </p:nvSpPr>
          <p:spPr>
            <a:xfrm>
              <a:off x="179280" y="3500280"/>
              <a:ext cx="212436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actor cover as splash guard and bli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4649760" y="4929120"/>
            <a:ext cx="4311720" cy="1001880"/>
            <a:chOff x="4649760" y="4929120"/>
            <a:chExt cx="4311720" cy="1001880"/>
          </a:xfrm>
        </p:grpSpPr>
        <p:sp>
          <p:nvSpPr>
            <p:cNvPr id="195" name="Freeform 11"/>
            <p:cNvSpPr/>
            <p:nvPr/>
          </p:nvSpPr>
          <p:spPr>
            <a:xfrm>
              <a:off x="4649760" y="5378400"/>
              <a:ext cx="2179800" cy="5526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837480" y="4929120"/>
              <a:ext cx="2124000" cy="925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reactor housing w. suction assembly</a:t>
              </a:r>
              <a:br>
                <a:rPr sz="1800"/>
              </a:b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optio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13"/>
          <p:cNvGrpSpPr/>
          <p:nvPr/>
        </p:nvGrpSpPr>
        <p:grpSpPr>
          <a:xfrm>
            <a:off x="5343480" y="1428840"/>
            <a:ext cx="3618000" cy="654120"/>
            <a:chOff x="5343480" y="1428840"/>
            <a:chExt cx="3618000" cy="654120"/>
          </a:xfrm>
        </p:grpSpPr>
        <p:sp>
          <p:nvSpPr>
            <p:cNvPr id="198" name="Freeform 14"/>
            <p:cNvSpPr/>
            <p:nvPr/>
          </p:nvSpPr>
          <p:spPr>
            <a:xfrm rot="21241200">
              <a:off x="5357520" y="1649880"/>
              <a:ext cx="1522440" cy="3546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15"/>
            <p:cNvSpPr/>
            <p:nvPr/>
          </p:nvSpPr>
          <p:spPr>
            <a:xfrm>
              <a:off x="6837480" y="1428840"/>
              <a:ext cx="2124000" cy="3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torsion mix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6"/>
          <p:cNvGrpSpPr/>
          <p:nvPr/>
        </p:nvGrpSpPr>
        <p:grpSpPr>
          <a:xfrm>
            <a:off x="179280" y="1341360"/>
            <a:ext cx="3313080" cy="650880"/>
            <a:chOff x="179280" y="1341360"/>
            <a:chExt cx="3313080" cy="650880"/>
          </a:xfrm>
        </p:grpSpPr>
        <p:sp>
          <p:nvSpPr>
            <p:cNvPr id="201" name="Line 17"/>
            <p:cNvSpPr/>
            <p:nvPr/>
          </p:nvSpPr>
          <p:spPr>
            <a:xfrm>
              <a:off x="1981080" y="1641600"/>
              <a:ext cx="1511280" cy="131760"/>
            </a:xfrm>
            <a:prstGeom prst="line">
              <a:avLst/>
            </a:prstGeom>
            <a:ln w="28440">
              <a:solidFill>
                <a:srgbClr val="ec7c16"/>
              </a:solidFill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18"/>
            <p:cNvSpPr/>
            <p:nvPr/>
          </p:nvSpPr>
          <p:spPr>
            <a:xfrm>
              <a:off x="179280" y="1341360"/>
              <a:ext cx="2124360" cy="65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deep drawn pane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Group 19"/>
          <p:cNvGrpSpPr/>
          <p:nvPr/>
        </p:nvGrpSpPr>
        <p:grpSpPr>
          <a:xfrm>
            <a:off x="4786200" y="3929040"/>
            <a:ext cx="4173480" cy="652320"/>
            <a:chOff x="4786200" y="3929040"/>
            <a:chExt cx="4173480" cy="652320"/>
          </a:xfrm>
        </p:grpSpPr>
        <p:sp>
          <p:nvSpPr>
            <p:cNvPr id="204" name="Text Box 20"/>
            <p:cNvSpPr/>
            <p:nvPr/>
          </p:nvSpPr>
          <p:spPr>
            <a:xfrm>
              <a:off x="6835680" y="3929040"/>
              <a:ext cx="2124000" cy="6411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dosing pumps in CAN-bus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1"/>
            <p:cNvSpPr/>
            <p:nvPr/>
          </p:nvSpPr>
          <p:spPr>
            <a:xfrm>
              <a:off x="4786200" y="4286160"/>
              <a:ext cx="2070000" cy="29520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Group 22"/>
          <p:cNvGrpSpPr/>
          <p:nvPr/>
        </p:nvGrpSpPr>
        <p:grpSpPr>
          <a:xfrm>
            <a:off x="5786280" y="1857240"/>
            <a:ext cx="3175200" cy="925560"/>
            <a:chOff x="5786280" y="1857240"/>
            <a:chExt cx="3175200" cy="925560"/>
          </a:xfrm>
        </p:grpSpPr>
        <p:sp>
          <p:nvSpPr>
            <p:cNvPr id="207" name="Text Box 23"/>
            <p:cNvSpPr/>
            <p:nvPr/>
          </p:nvSpPr>
          <p:spPr>
            <a:xfrm>
              <a:off x="6837480" y="1857240"/>
              <a:ext cx="2124000" cy="9255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ontroller with data logger and screen recor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4"/>
            <p:cNvSpPr/>
            <p:nvPr/>
          </p:nvSpPr>
          <p:spPr>
            <a:xfrm flipV="1">
              <a:off x="5786280" y="2357280"/>
              <a:ext cx="1071720" cy="28584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25"/>
          <p:cNvGrpSpPr/>
          <p:nvPr/>
        </p:nvGrpSpPr>
        <p:grpSpPr>
          <a:xfrm>
            <a:off x="179280" y="3860640"/>
            <a:ext cx="3384720" cy="2033640"/>
            <a:chOff x="179280" y="3860640"/>
            <a:chExt cx="3384720" cy="2033640"/>
          </a:xfrm>
        </p:grpSpPr>
        <p:sp>
          <p:nvSpPr>
            <p:cNvPr id="210" name="Freeform 26"/>
            <p:cNvSpPr/>
            <p:nvPr/>
          </p:nvSpPr>
          <p:spPr>
            <a:xfrm>
              <a:off x="2286000" y="3860640"/>
              <a:ext cx="1278000" cy="136872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7"/>
            <p:cNvSpPr/>
            <p:nvPr/>
          </p:nvSpPr>
          <p:spPr>
            <a:xfrm>
              <a:off x="2295360" y="4943520"/>
              <a:ext cx="1052640" cy="28584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28"/>
            <p:cNvSpPr/>
            <p:nvPr/>
          </p:nvSpPr>
          <p:spPr>
            <a:xfrm>
              <a:off x="179280" y="4724280"/>
              <a:ext cx="2124360" cy="117000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calibration and suction aid with vacuum pump 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(optional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19"/>
          <p:cNvGrpSpPr/>
          <p:nvPr/>
        </p:nvGrpSpPr>
        <p:grpSpPr>
          <a:xfrm>
            <a:off x="4572000" y="3062160"/>
            <a:ext cx="4387320" cy="1223640"/>
            <a:chOff x="4572000" y="3062160"/>
            <a:chExt cx="4387320" cy="1223640"/>
          </a:xfrm>
        </p:grpSpPr>
        <p:sp>
          <p:nvSpPr>
            <p:cNvPr id="214" name="Text Box 20"/>
            <p:cNvSpPr/>
            <p:nvPr/>
          </p:nvSpPr>
          <p:spPr>
            <a:xfrm>
              <a:off x="6835680" y="3062160"/>
              <a:ext cx="2123640" cy="641160"/>
            </a:xfrm>
            <a:prstGeom prst="rect">
              <a:avLst/>
            </a:prstGeom>
            <a:noFill/>
            <a:ln w="9360">
              <a:solidFill>
                <a:srgbClr val="0d2a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ingle strok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low sens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"/>
            <p:cNvSpPr/>
            <p:nvPr/>
          </p:nvSpPr>
          <p:spPr>
            <a:xfrm>
              <a:off x="4572000" y="3419280"/>
              <a:ext cx="2284200" cy="866520"/>
            </a:xfrm>
            <a:prstGeom prst="pie">
              <a:avLst/>
            </a:prstGeom>
            <a:noFill/>
            <a:ln w="28440">
              <a:solidFill>
                <a:srgbClr val="ec7c16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pull dir="l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apacity Range CDV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714240" y="1397160"/>
          <a:ext cx="7500960" cy="4889520"/>
        </p:xfrm>
        <a:graphic>
          <a:graphicData uri="http://schemas.openxmlformats.org/drawingml/2006/table">
            <a:tbl>
              <a:tblPr/>
              <a:tblGrid>
                <a:gridCol w="1874880"/>
                <a:gridCol w="1876680"/>
                <a:gridCol w="1874520"/>
                <a:gridCol w="187488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</a:t>
                      </a:r>
                      <a:r>
                        <a:rPr b="1" lang="en-GB" sz="2200" spc="-1" strike="noStrike" baseline="-1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output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g/h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press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bar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temperat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°C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-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-4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-1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2-2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0-6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Vc 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0-2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18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CDVc 02_06  15_120g_h 2007_12_19"/>
          <p:cNvPicPr/>
          <p:nvPr/>
        </p:nvPicPr>
        <p:blipFill>
          <a:blip r:embed="rId1"/>
          <a:stretch/>
        </p:blipFill>
        <p:spPr>
          <a:xfrm>
            <a:off x="2556000" y="1447920"/>
            <a:ext cx="3990960" cy="4952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ello Zon CDKc for Concentrate Chemica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feld 32"/>
          <p:cNvSpPr/>
          <p:nvPr/>
        </p:nvSpPr>
        <p:spPr>
          <a:xfrm rot="19630200">
            <a:off x="1641960" y="3476520"/>
            <a:ext cx="5786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ign will follow during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pective Capacity Range CDK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714240" y="1397160"/>
          <a:ext cx="7500960" cy="4889520"/>
        </p:xfrm>
        <a:graphic>
          <a:graphicData uri="http://schemas.openxmlformats.org/drawingml/2006/table">
            <a:tbl>
              <a:tblPr/>
              <a:tblGrid>
                <a:gridCol w="1874880"/>
                <a:gridCol w="1876680"/>
                <a:gridCol w="1874520"/>
                <a:gridCol w="187488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yp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lO</a:t>
                      </a:r>
                      <a:r>
                        <a:rPr b="1" lang="en-GB" sz="2200" spc="-1" strike="noStrike" baseline="-15000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-output</a:t>
                      </a:r>
                      <a:br>
                        <a:rPr sz="2200"/>
                      </a:b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g/h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press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bar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perating temperature</a:t>
                      </a:r>
                      <a:br>
                        <a:rPr sz="2200"/>
                      </a:br>
                      <a:r>
                        <a:rPr b="1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°C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1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7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2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9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9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2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.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0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3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.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CDKc 7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7.5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2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5-4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225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asic Concept New Series CDVc and CDK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428840"/>
            <a:ext cx="7777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05200" indent="-20520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ontroller similar to Dulcomar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 indent="-20772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rect connection of 2 amperometric sensors: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easurement and display of chlorine dioxide and chlori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(mA-sensors, not CAN-Sensors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48360" y="2666880"/>
            <a:ext cx="3200400" cy="33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550"/>
              </a:spcBef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ultiple interfaces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(under discus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rofibus 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EB-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nalo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lnSpc>
                <a:spcPct val="90000"/>
              </a:lnSpc>
              <a:spcBef>
                <a:spcPts val="499"/>
              </a:spcBef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Grundmodell_2"/>
          <p:cNvPicPr/>
          <p:nvPr/>
        </p:nvPicPr>
        <p:blipFill>
          <a:blip r:embed="rId1"/>
          <a:stretch/>
        </p:blipFill>
        <p:spPr>
          <a:xfrm>
            <a:off x="1187280" y="2852640"/>
            <a:ext cx="3240360" cy="3659400"/>
          </a:xfrm>
          <a:prstGeom prst="rect">
            <a:avLst/>
          </a:prstGeom>
          <a:ln w="0">
            <a:noFill/>
          </a:ln>
        </p:spPr>
      </p:pic>
      <p:sp>
        <p:nvSpPr>
          <p:cNvPr id="230" name="Datumsplatzhalter 5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220680"/>
            <a:ext cx="77040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cept Controller New Series CDVc and CDK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4581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color display of Dulcomarin I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45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, self-explaining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225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grated screen recorder and data archi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550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oke length monitoring of the metering pum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45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calculation of the capacity after changing the strok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70000">
              <a:spcBef>
                <a:spcPts val="451"/>
              </a:spcBef>
              <a:spcAft>
                <a:spcPts val="901"/>
              </a:spcAft>
              <a:buClr>
                <a:srgbClr val="ec7c1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lure message at accidental changing of the stroke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550"/>
              </a:spcBef>
              <a:spcAft>
                <a:spcPts val="11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7704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ntroller New Series CDVc and CDK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77043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 output for normal operation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lay outputs warning and alarm freely configur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gital remote control input freely configurabl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function pause or high do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de range power supply 90-240 V, 50/60 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550"/>
              </a:spcBef>
              <a:spcAft>
                <a:spcPts val="1375"/>
              </a:spcAft>
              <a:buClr>
                <a:srgbClr val="ec7c1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nection of up to 14 auxiliary modules via CAN-b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atumsplatzhalter 3"/>
          <p:cNvSpPr/>
          <p:nvPr/>
        </p:nvSpPr>
        <p:spPr>
          <a:xfrm>
            <a:off x="6553080" y="6649920"/>
            <a:ext cx="16909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ffffff"/>
                </a:solidFill>
                <a:latin typeface="Verdana"/>
              </a:rPr>
              <a:t>Dr. Rothe, 08.10.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0:50:09Z</dcterms:created>
  <dc:creator>rothe</dc:creator>
  <dc:description/>
  <dc:language>en-US</dc:language>
  <cp:lastModifiedBy>Rothe Dr. Matthias</cp:lastModifiedBy>
  <cp:lastPrinted>2000-07-21T07:29:10Z</cp:lastPrinted>
  <dcterms:modified xsi:type="dcterms:W3CDTF">2009-01-13T08:32:48Z</dcterms:modified>
  <cp:revision>104</cp:revision>
  <dc:subject/>
  <dc:title>PowerPoint-Präsentation</dc:title>
</cp:coreProperties>
</file>