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E206-871C-45E2-9C13-5D0D710F9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4B20-CFC1-45F6-95B5-F0B6BA28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4E65-1CCF-4A1A-BC95-BE9469A3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F3F3-6F5C-4867-8016-DA0B2A5DA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E3D4-5D04-41A1-93D2-705727C3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A972-BE48-4522-9214-EA61D1A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4675-11B6-4E64-88D9-42ED156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436E-0996-4F39-8A49-AA3E128C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D765-02CA-4643-AA2D-01B71930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EF46-C661-4C6D-A36B-72A4A76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40B9-2436-4602-A370-B923823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48BD-04CB-403E-8731-C318619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378-F448-4789-8412-6960EA2CA9B6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13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1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4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8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9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0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2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3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4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55"/>
          <p:cNvSpPr/>
          <p:nvPr/>
        </p:nvSpPr>
        <p:spPr>
          <a:xfrm>
            <a:off x="633240" y="320688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6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ulcometer D1C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3880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ulcometer D1C/b is the latest in measurement and control from ProMi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1C/b replaces the D1C/a in many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tures and exceptions are listed on the following sl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514840" y="1600200"/>
            <a:ext cx="2703600" cy="243828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s – D1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718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analog output (record or contr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digital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 forward signal – pulse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 display (bar grap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ibration log (last 10 ev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 log (last 10 ev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H compen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/PID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514840" y="1600200"/>
            <a:ext cx="2703600" cy="243828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s – D1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56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pulse frequency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power relays (limit, control, tim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larm re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e compensation for pH and con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supply 90-253 V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measured variables as D1C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514840" y="1600200"/>
            <a:ext cx="2703600" cy="243828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4794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D1Ca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Analog Outputs are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Compensation is needed (chlor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 Forward via Analog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e via Analog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o motor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5514840" y="1600200"/>
            <a:ext cx="2703600" cy="243828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3:04:39Z</dcterms:created>
  <dc:creator>Mike St. Germain</dc:creator>
  <dc:description/>
  <dc:language>en-US</dc:language>
  <cp:lastModifiedBy>Noel Twyman</cp:lastModifiedBy>
  <dcterms:modified xsi:type="dcterms:W3CDTF">2010-09-14T12:39:03Z</dcterms:modified>
  <cp:revision>21</cp:revision>
  <dc:subject/>
  <dc:title>Reno Training</dc:title>
</cp:coreProperties>
</file>