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dt" idx="9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ftr" idx="10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 type="sldNum" idx="11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09CD6962-5C72-4A31-A991-312BF7D0629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F757A44-F037-49A8-BF43-1BEC6483F45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DDB4F-28B8-42B8-8BAF-F5000EB780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E9DE-80B8-44F1-B953-77361AD0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F105C-F26A-47AC-B63B-1E296839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B76C8-8771-45CD-B8CC-DF9C30D8F8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2B50E-3054-4249-A0A5-F11F6683AD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F40A6-51DC-4D84-B359-36BF518D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B6D75-633E-4C1E-AC76-EEE446E7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6FEA6-5B29-4744-B515-BA7F1F8B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A1F9C-0003-4F83-B139-9ABEF292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76E5C-048E-4A18-81F0-67420A34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6E40C-67B1-4008-80B8-7E171B43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01E91-41B8-4C9D-B4EB-8C871EB3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9E0DA-9617-4A3F-A32F-0F912220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61FAB-77FA-43A7-8670-B190785C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71356-59AB-4F59-88E3-C24016AA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D076C-EBF8-4390-BD0E-26A58702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DB14B-0343-41F0-88FD-4130FA6B56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C604-108E-4D5D-96CF-A8FC5964D6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1C00-E8FD-480F-97B5-A2F9369B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2A65-5508-4D5A-B1EC-E4A2F490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EE6B-53EA-40E1-9F22-EEDF9F53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A3B6-B211-41A7-A908-0F8A154B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BD1B9-3CF3-4E04-A1F6-EC2C47B1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E97E-5880-4C3F-91E4-82AA0B35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C54B-C91D-494E-9829-934B808F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8635-D3C9-4389-8732-45DD24E9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9A6A-7FCD-4BC4-9E8F-6AD5B990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CE5F-0D5D-4D28-A4D8-163E1B35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BE16-B098-42C9-BE34-9E44CF52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FF49-DF10-4143-AC89-E4FD8DF1A4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703B8-11F9-4D02-9A35-4C112D8FDB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312094-324A-42CB-A701-6130444D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8E2A9-4049-4A7C-8135-FD1A108A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BACEA-9EE7-4625-85D8-CEEC71E4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E233A-3179-4693-BE92-57CC6FD7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5B84D3-AFEF-46F7-8571-1FAEFAA4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2A903-6F31-4328-A4F7-E76C8E49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1854D8-DDF5-4373-8A4D-E332F6AD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BB150-064E-4F79-AB4D-AAF2A71C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82A35-099F-4591-8177-5505969D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8CDA0-D294-45EE-B228-B50EE17F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BF6A5-E5C9-42F8-AD04-19F0CBCA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24162-11C9-41E9-A5A3-4EED3EA0C3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7C1E-B6C1-4D7A-A030-C8BC039A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AE721-DF01-46FA-9BCE-D507CB8F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C2534-2744-474C-A698-527E5C38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9C842-060A-4D2D-B31C-ED66F3F3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F135D-2ABA-44BE-B0B0-B8A264A7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5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4086-82E3-4723-BCA8-268B200E733A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11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59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7" name="Freeform 12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58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12" name="Rectangle 17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8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9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20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21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2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3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4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5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6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7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8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9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30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31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32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3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4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5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6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7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8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9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40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41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42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3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4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5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6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7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8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9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50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51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52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3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4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5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6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Line 62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3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91" name="Freeform 57"/>
          <p:cNvSpPr/>
          <p:nvPr/>
        </p:nvSpPr>
        <p:spPr>
          <a:xfrm>
            <a:off x="633240" y="1268280"/>
            <a:ext cx="7610760" cy="1944720"/>
          </a:xfrm>
          <a:prstGeom prst="pi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39280" y="3429000"/>
            <a:ext cx="770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3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4"/>
          </p:nvPr>
        </p:nvSpPr>
        <p:spPr>
          <a:xfrm>
            <a:off x="655272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45C3-5F52-4DD8-9D4F-954C201598A1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8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98" name="Freeform 9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4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103" name="Rectangle 15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6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7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8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0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1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2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3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4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5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6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7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8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9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0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1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3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4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5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36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7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8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39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0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1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2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3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4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5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6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7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8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9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50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51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2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3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54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Line 58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9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0"/>
          <p:cNvSpPr/>
          <p:nvPr/>
        </p:nvSpPr>
        <p:spPr>
          <a:xfrm>
            <a:off x="0" y="3213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9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183" name="Freeform 2"/>
          <p:cNvSpPr/>
          <p:nvPr/>
        </p:nvSpPr>
        <p:spPr>
          <a:xfrm>
            <a:off x="633240" y="1268280"/>
            <a:ext cx="3938760" cy="5400720"/>
          </a:xfrm>
          <a:prstGeom prst="pi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716000" y="1484280"/>
            <a:ext cx="352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5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6"/>
          </p:nvPr>
        </p:nvSpPr>
        <p:spPr>
          <a:xfrm>
            <a:off x="655272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6939-06FC-481A-BFE8-082409EADE60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8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9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190" name="Freeform 10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1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2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195" name="Rectangle 15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6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7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8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9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0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1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22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3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4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5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6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7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8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9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0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1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2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3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34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35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36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37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38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39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40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41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42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3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44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45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46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47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48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49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50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1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52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3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54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Line 55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6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58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274" name="Freeform 3"/>
          <p:cNvSpPr/>
          <p:nvPr/>
        </p:nvSpPr>
        <p:spPr>
          <a:xfrm>
            <a:off x="0" y="1268280"/>
            <a:ext cx="8244000" cy="540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7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8"/>
          </p:nvPr>
        </p:nvSpPr>
        <p:spPr>
          <a:xfrm>
            <a:off x="655272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30A9-236C-402F-AF87-09C64F007E19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8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9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280" name="Freeform 10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3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14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285" name="Rectangle 15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6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7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8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9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20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1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2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3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24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25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6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27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8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29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30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31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32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33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34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35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36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37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38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9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40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41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42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43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44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45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46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47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48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9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50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51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52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53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54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Line 55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56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113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364" name="Freeform 7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8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366" name="Freeform 9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0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1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2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55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63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372" name="Rectangle 64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65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6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6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6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69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70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7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7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7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7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7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7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7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7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79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8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8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8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8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8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8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8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8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8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8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9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91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9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9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9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9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9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9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9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99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0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0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0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03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Line 54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60" descr="verlauf"/>
          <p:cNvPicPr/>
          <p:nvPr/>
        </p:nvPicPr>
        <p:blipFill>
          <a:blip r:embed="rId3"/>
          <a:stretch/>
        </p:blipFill>
        <p:spPr>
          <a:xfrm>
            <a:off x="635040" y="1852560"/>
            <a:ext cx="7608960" cy="1432080"/>
          </a:xfrm>
          <a:prstGeom prst="rect">
            <a:avLst/>
          </a:prstGeom>
          <a:ln w="0">
            <a:noFill/>
          </a:ln>
        </p:spPr>
      </p:pic>
      <p:sp>
        <p:nvSpPr>
          <p:cNvPr id="414" name="Freeform 161"/>
          <p:cNvSpPr/>
          <p:nvPr/>
        </p:nvSpPr>
        <p:spPr>
          <a:xfrm>
            <a:off x="633240" y="320688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62"/>
          <p:cNvSpPr/>
          <p:nvPr/>
        </p:nvSpPr>
        <p:spPr>
          <a:xfrm>
            <a:off x="0" y="3213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160" descr="verlauf"/>
          <p:cNvPicPr/>
          <p:nvPr/>
        </p:nvPicPr>
        <p:blipFill>
          <a:blip r:embed="rId2"/>
          <a:stretch/>
        </p:blipFill>
        <p:spPr>
          <a:xfrm>
            <a:off x="635040" y="1852560"/>
            <a:ext cx="7608960" cy="1432080"/>
          </a:xfrm>
          <a:prstGeom prst="rect">
            <a:avLst/>
          </a:prstGeom>
          <a:ln w="0">
            <a:noFill/>
          </a:ln>
        </p:spPr>
      </p:pic>
      <p:sp>
        <p:nvSpPr>
          <p:cNvPr id="455" name="Freeform 161"/>
          <p:cNvSpPr/>
          <p:nvPr/>
        </p:nvSpPr>
        <p:spPr>
          <a:xfrm>
            <a:off x="633240" y="320688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59" descr="verlauf"/>
          <p:cNvPicPr/>
          <p:nvPr/>
        </p:nvPicPr>
        <p:blipFill>
          <a:blip r:embed="rId3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457" name="Freeform 60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61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459" name="Freeform 62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63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4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5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Line 108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10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114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466" name="Rectangle 115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16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17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8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19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20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21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22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23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24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25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26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27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28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29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130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131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132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133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134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135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36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37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38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39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40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41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42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43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44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45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46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47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48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49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50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51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152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53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54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Line 157"/>
          <p:cNvSpPr/>
          <p:nvPr/>
        </p:nvSpPr>
        <p:spPr>
          <a:xfrm>
            <a:off x="0" y="3213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539280" y="3429000"/>
            <a:ext cx="770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61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546" name="Freeform 60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61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548" name="Freeform 62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3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4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5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108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09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116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555" name="Rectangle 117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18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19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20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21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22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23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24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25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26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7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28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29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30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31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32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3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34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35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36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37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38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39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40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41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42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43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44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45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46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147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48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49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50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151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52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153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54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155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56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5" name="Picture 166" descr="verlauf"/>
          <p:cNvPicPr/>
          <p:nvPr/>
        </p:nvPicPr>
        <p:blipFill>
          <a:blip r:embed="rId3"/>
          <a:stretch/>
        </p:blipFill>
        <p:spPr>
          <a:xfrm>
            <a:off x="635040" y="1852560"/>
            <a:ext cx="7608960" cy="1432080"/>
          </a:xfrm>
          <a:prstGeom prst="rect">
            <a:avLst/>
          </a:prstGeom>
          <a:ln w="0">
            <a:noFill/>
          </a:ln>
        </p:spPr>
      </p:pic>
      <p:sp>
        <p:nvSpPr>
          <p:cNvPr id="596" name="Freeform 167"/>
          <p:cNvSpPr/>
          <p:nvPr/>
        </p:nvSpPr>
        <p:spPr>
          <a:xfrm>
            <a:off x="633240" y="320688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68"/>
          <p:cNvSpPr/>
          <p:nvPr/>
        </p:nvSpPr>
        <p:spPr>
          <a:xfrm>
            <a:off x="0" y="3213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716000" y="1484280"/>
            <a:ext cx="352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58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637" name="Freeform 59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60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639" name="Freeform 61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62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63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64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Line 107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08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113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646" name="Rectangle 114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15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1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11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1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119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20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2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2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2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2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2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2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2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12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129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13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3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3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3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13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3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3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3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4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41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4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4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4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4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4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4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4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49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5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5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5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53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6" name="Picture 163" descr="verlauf"/>
          <p:cNvPicPr/>
          <p:nvPr/>
        </p:nvPicPr>
        <p:blipFill>
          <a:blip r:embed="rId3"/>
          <a:stretch/>
        </p:blipFill>
        <p:spPr>
          <a:xfrm>
            <a:off x="635040" y="1852560"/>
            <a:ext cx="7608960" cy="1432080"/>
          </a:xfrm>
          <a:prstGeom prst="rect">
            <a:avLst/>
          </a:prstGeom>
          <a:ln w="0">
            <a:noFill/>
          </a:ln>
        </p:spPr>
      </p:pic>
      <p:sp>
        <p:nvSpPr>
          <p:cNvPr id="687" name="Freeform 164"/>
          <p:cNvSpPr/>
          <p:nvPr/>
        </p:nvSpPr>
        <p:spPr>
          <a:xfrm>
            <a:off x="633240" y="320688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65"/>
          <p:cNvSpPr/>
          <p:nvPr/>
        </p:nvSpPr>
        <p:spPr>
          <a:xfrm>
            <a:off x="0" y="3213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1Cb FW Update with USB adap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Upgrade via Activation K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539280" y="3544920"/>
            <a:ext cx="77043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tmar Be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manager Business Unit Measuring &amp; Control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Jun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6" descr="Titel_dosieren_klein"/>
          <p:cNvPicPr/>
          <p:nvPr/>
        </p:nvPicPr>
        <p:blipFill>
          <a:blip r:embed="rId1"/>
          <a:stretch/>
        </p:blipFill>
        <p:spPr>
          <a:xfrm>
            <a:off x="5848200" y="1276200"/>
            <a:ext cx="2389320" cy="192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Titel_dosieren"/>
          <p:cNvPicPr/>
          <p:nvPr/>
        </p:nvPicPr>
        <p:blipFill>
          <a:blip r:embed="rId2"/>
          <a:srcRect l="0" t="13658" r="0" b="39786"/>
          <a:stretch/>
        </p:blipFill>
        <p:spPr>
          <a:xfrm>
            <a:off x="633240" y="1273320"/>
            <a:ext cx="5156280" cy="193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34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1Cb FW Update with USB adap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Upgrade via Activation K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grade –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a difference between firmware update and identity code up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a firmware (another name for software) update of a controller necess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lear software b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dd new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dd new langu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firmware update is necessary you will be informed by ProMinent Heidelberg (email, MMP inf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rmware update is without any co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1Cb Upgrade with Activation K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pgrade possibility with Activation Key allows you to store D1Cb controllers with basic configu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immediately deliver a customized controller after the wishes of your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ossible identity code configurations are supported by the D1Cb´s hardware without any additional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ce for the upgrade is given in the D1Cb´s price l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normal conditions are valid for the Activation Key upg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ways to put the Activation Key in the D1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do it with the D1Cb´s key 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with a Windows PC, USB to CAN adapter and PC Update Softw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make a firmware upda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539280" y="135720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 the software “language and firmware update” on your Windows PC (use the corresponding man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exactly the manu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onnect the USB adapter before or during installation. Connect it after installation and after reboo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installation, do answer all reboot requests with “N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nstall .NET and IXXAT dr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or help the 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the programming adapter connection, shown on small manual small manual page A3-14 /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complete installation reboot the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the IXXAT USB to CAN 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the latest firmware and language data files from the service page (technical documents, search after D1Cb 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the USB to CAN adapter to the D1Cb like shown in the man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make a firmware upda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the firmware and language files from the servic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after: D1Cb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files to your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the PC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what you want to do (Firmwareupdate / Languageupdate upd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the downloade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“start updat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ower drops while updating or something else breaks the connection use the “recovery mod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ty code upgra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Inhaltsplatzhalter 2"/>
          <p:cNvSpPr/>
          <p:nvPr/>
        </p:nvSpPr>
        <p:spPr>
          <a:xfrm>
            <a:off x="539640" y="1317600"/>
            <a:ext cx="8604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need the following informations of the D1C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ment number, you can find this number in the menu “General Settings und Informations” or on the type plate of the D1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ntity code value you want t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ntity code of the D1Cb in the Activation Key application on the service page is preset to the basic identity code settings – they are for free. The values with costs are mar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want to upgrade an identity code value, you change only this value of the identity code in the Activation Key application you want to exp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t of the values stay on the basic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 already upgraded D1Cb must be expanded a second/third time you change only this relating value of the identity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t of the values stay again on the basic set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cedure is necessary that you pay not twice for an already expanded fe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ty code upgra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8480" indent="-25848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on the service page and click on the “Activation Key” button you run the “Activation Key”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ype in you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eMail address (it is only one address possible) if you need more you must define a rule in your email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in your internal reference number. This will help to find the right internal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in some internal notes. They will not be processed from somebody else automaticall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elect the device type = D1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in the 10 digit equipment number of the D1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 the identity code values which must be changed to your requi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requests and CONFIRM your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&lt;CREATE KEY&gt;, tick ACCEPT, click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receive a email with the Activation Key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2" descr="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989760"/>
          </a:xfrm>
          <a:prstGeom prst="rect">
            <a:avLst/>
          </a:prstGeom>
          <a:ln w="0">
            <a:noFill/>
          </a:ln>
        </p:spPr>
      </p:pic>
      <p:cxnSp>
        <p:nvCxnSpPr>
          <p:cNvPr id="751" name="Gerade Verbindung mit Pfeil 4"/>
          <p:cNvCxnSpPr/>
          <p:nvPr/>
        </p:nvCxnSpPr>
        <p:spPr>
          <a:xfrm flipV="1">
            <a:off x="5143320" y="2499840"/>
            <a:ext cx="643320" cy="572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91234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8:37:59Z</dcterms:created>
  <dc:creator>nigge</dc:creator>
  <dc:description/>
  <dc:language>en-US</dc:language>
  <cp:lastModifiedBy>dberger</cp:lastModifiedBy>
  <dcterms:modified xsi:type="dcterms:W3CDTF">2009-07-06T09:24:05Z</dcterms:modified>
  <cp:revision>329</cp:revision>
  <dc:subject/>
  <dc:title>Folie 1</dc:title>
</cp:coreProperties>
</file>