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44F6-5F37-48B5-BBA4-7495493A9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5EAA-F635-4157-B4B1-F98EB6352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8E2D-EF06-497C-A20A-2A686D309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F661-20C4-46B2-BC92-7E2902E3D7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5E41-C3D6-4B7E-A8AD-F1FBFFC2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C133-948A-4D26-9AE3-DE71C24F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B558-1E29-4AC4-AD44-309D3C8031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3578-353F-4522-A4DA-5AF20B9F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6690-9B5B-4107-996C-A9A3FF9F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4D9B-A790-49FD-84C0-6C23E2E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6B0E-BCB9-4FC3-95B4-D8E616EB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14DD-DB9A-44D6-AF74-F042D8D0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AC5A-E1F8-4417-9790-082DE330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EDF9-BD24-499A-B0D2-ED5B083E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48AA-0091-45F7-ACB1-388B570A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615F-21EF-4205-847B-5693B710CA38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9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3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5"/>
            <p:cNvSpPr/>
            <p:nvPr/>
          </p:nvSpPr>
          <p:spPr>
            <a:xfrm>
              <a:off x="8642520" y="1044720"/>
              <a:ext cx="141120" cy="85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8582040" y="125280"/>
              <a:ext cx="204840" cy="787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8586720" y="1135080"/>
              <a:ext cx="196920" cy="139680"/>
            </a:xfrm>
            <a:prstGeom prst="pie">
              <a:avLst/>
            </a:pr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8642520" y="922320"/>
              <a:ext cx="144360" cy="123840"/>
            </a:xfrm>
            <a:prstGeom prst="pie">
              <a:avLst/>
            </a:pr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938920" y="1100160"/>
            <a:ext cx="2229840" cy="122040"/>
            <a:chOff x="5938920" y="1100160"/>
            <a:chExt cx="22298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89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600084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3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868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6872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468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49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37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5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6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ent Polymer System </a:t>
            </a:r>
            <a:br>
              <a:rPr sz="28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Mix-M Ser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-M Se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5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232440" cy="3854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886200" y="1599840"/>
            <a:ext cx="4495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ies to meet every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 friendly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rame design for easy maintenance and house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 of feed p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op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house designed &amp; built pumps, controls, and majo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features an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419720" y="1752480"/>
            <a:ext cx="40528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stinct mixing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fferent mixing blades to deliver prope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one – Blade delivers high shear at precise point of polymer injection, creating immediate dispersion before agglomeration takes place. Induced back mixing eliminates short circ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 Mixing Cha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1219320" y="6019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x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8"/>
          <p:cNvGrpSpPr/>
          <p:nvPr/>
        </p:nvGrpSpPr>
        <p:grpSpPr>
          <a:xfrm>
            <a:off x="838080" y="1676160"/>
            <a:ext cx="2914920" cy="4190760"/>
            <a:chOff x="838080" y="1676160"/>
            <a:chExt cx="2914920" cy="4190760"/>
          </a:xfrm>
        </p:grpSpPr>
        <p:pic>
          <p:nvPicPr>
            <p:cNvPr id="196" name="Picture 2" descr=""/>
            <p:cNvPicPr/>
            <p:nvPr/>
          </p:nvPicPr>
          <p:blipFill>
            <a:blip r:embed="rId1"/>
            <a:stretch/>
          </p:blipFill>
          <p:spPr>
            <a:xfrm rot="16200000">
              <a:off x="200160" y="2314080"/>
              <a:ext cx="4190760" cy="29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Curved Down Arrow 30"/>
            <p:cNvSpPr/>
            <p:nvPr/>
          </p:nvSpPr>
          <p:spPr>
            <a:xfrm flipV="1" rot="10402200">
              <a:off x="2375640" y="3399840"/>
              <a:ext cx="749160" cy="293400"/>
            </a:xfrm>
            <a:custGeom>
              <a:avLst/>
              <a:gdLst>
                <a:gd name="textAreaLeft" fmla="*/ 159480 w 749160"/>
                <a:gd name="textAreaRight" fmla="*/ 552960 w 749160"/>
                <a:gd name="textAreaTop" fmla="*/ 39240 h 293400"/>
                <a:gd name="textAreaBottom" fmla="*/ 2541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13" hR="21600" stAng="10800000" swAng="5400000"/>
                  <a:lnTo>
                    <a:pt x="11330" y="0"/>
                  </a:lnTo>
                  <a:arcTo wR="9213" hR="21600" stAng="-5400000" swAng="3528599"/>
                  <a:lnTo>
                    <a:pt x="21307" y="16200"/>
                  </a:lnTo>
                  <a:lnTo>
                    <a:pt x="19484" y="21600"/>
                  </a:lnTo>
                  <a:lnTo>
                    <a:pt x="17074" y="16200"/>
                  </a:lnTo>
                  <a:lnTo>
                    <a:pt x="18132" y="16200"/>
                  </a:lnTo>
                  <a:arcTo wR="9213" hR="21600" stAng="-1871401" swAng="-3359147"/>
                  <a:lnTo>
                    <a:pt x="10271" y="143"/>
                  </a:lnTo>
                  <a:arcTo wR="9213" hR="21600" stAng="-5569451" swAng="-5230549"/>
                  <a:close/>
                </a:path>
                <a:path fill="darkenLess" w="21600" h="21600">
                  <a:moveTo>
                    <a:pt x="0" y="21600"/>
                  </a:moveTo>
                  <a:arcTo wR="9213" hR="21600" stAng="10800000" swAng="5400000"/>
                  <a:lnTo>
                    <a:pt x="9213" y="0"/>
                  </a:lnTo>
                  <a:arcTo wR="9213" hR="21600" stAng="-5400000" swAng="169451"/>
                  <a:lnTo>
                    <a:pt x="10271" y="143"/>
                  </a:lnTo>
                  <a:arcTo wR="9213" hR="21600" stAng="-5569451" swAng="-523054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Curved Down Arrow 31"/>
            <p:cNvSpPr/>
            <p:nvPr/>
          </p:nvSpPr>
          <p:spPr>
            <a:xfrm rot="1531200">
              <a:off x="1548720" y="3436920"/>
              <a:ext cx="812880" cy="304560"/>
            </a:xfrm>
            <a:custGeom>
              <a:avLst/>
              <a:gdLst>
                <a:gd name="textAreaLeft" fmla="*/ 174600 w 812880"/>
                <a:gd name="textAreaRight" fmla="*/ 600120 w 8128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1" hR="21600" stAng="10800000" swAng="5400000"/>
                  <a:lnTo>
                    <a:pt x="11307" y="0"/>
                  </a:lnTo>
                  <a:arcTo wR="9281" hR="21600" stAng="-5400000" swAng="3539862"/>
                  <a:lnTo>
                    <a:pt x="21305" y="16200"/>
                  </a:lnTo>
                  <a:lnTo>
                    <a:pt x="19575" y="21600"/>
                  </a:lnTo>
                  <a:lnTo>
                    <a:pt x="17255" y="16200"/>
                  </a:lnTo>
                  <a:lnTo>
                    <a:pt x="18267" y="16200"/>
                  </a:lnTo>
                  <a:arcTo wR="9281" hR="21600" stAng="-1860138" swAng="-3377789"/>
                  <a:lnTo>
                    <a:pt x="10294" y="129"/>
                  </a:lnTo>
                  <a:arcTo wR="9281" hR="21600" stAng="-5562073" swAng="-5237927"/>
                  <a:close/>
                </a:path>
                <a:path fill="darkenLess" w="21600" h="21600">
                  <a:moveTo>
                    <a:pt x="0" y="21600"/>
                  </a:moveTo>
                  <a:arcTo wR="9281" hR="21600" stAng="10800000" swAng="5400000"/>
                  <a:lnTo>
                    <a:pt x="9281" y="0"/>
                  </a:lnTo>
                  <a:arcTo wR="9281" hR="21600" stAng="-5400000" swAng="162073"/>
                  <a:lnTo>
                    <a:pt x="10294" y="129"/>
                  </a:lnTo>
                  <a:arcTo wR="9281" hR="21600" stAng="-5562073" swAng="-523792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Curved Down Arrow 32"/>
            <p:cNvSpPr/>
            <p:nvPr/>
          </p:nvSpPr>
          <p:spPr>
            <a:xfrm rot="1531200">
              <a:off x="2308320" y="4215960"/>
              <a:ext cx="897120" cy="304560"/>
            </a:xfrm>
            <a:custGeom>
              <a:avLst/>
              <a:gdLst>
                <a:gd name="textAreaLeft" fmla="*/ 186120 w 897120"/>
                <a:gd name="textAreaRight" fmla="*/ 711000 w 89712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5" hR="21600" stAng="10800000" swAng="5400000"/>
                  <a:lnTo>
                    <a:pt x="12635" y="0"/>
                  </a:lnTo>
                  <a:arcTo wR="8965" hR="21600" stAng="-5400000" swAng="3486864"/>
                  <a:lnTo>
                    <a:pt x="21315" y="16200"/>
                  </a:lnTo>
                  <a:lnTo>
                    <a:pt x="19765" y="21600"/>
                  </a:lnTo>
                  <a:lnTo>
                    <a:pt x="17645" y="16200"/>
                  </a:lnTo>
                  <a:lnTo>
                    <a:pt x="17645" y="16200"/>
                  </a:lnTo>
                  <a:arcTo wR="8965" hR="21600" stAng="-1913136" swAng="-3189243"/>
                  <a:lnTo>
                    <a:pt x="10800" y="457"/>
                  </a:lnTo>
                  <a:arcTo wR="8965" hR="21600" stAng="-5697621" swAng="-5102379"/>
                  <a:close/>
                </a:path>
                <a:path fill="darkenLess" w="21600" h="21600">
                  <a:moveTo>
                    <a:pt x="0" y="21600"/>
                  </a:moveTo>
                  <a:arcTo wR="8965" hR="21600" stAng="10800000" swAng="5400000"/>
                  <a:lnTo>
                    <a:pt x="8965" y="0"/>
                  </a:lnTo>
                  <a:arcTo wR="8965" hR="21600" stAng="-5400000" swAng="297621"/>
                  <a:lnTo>
                    <a:pt x="10800" y="457"/>
                  </a:lnTo>
                  <a:arcTo wR="8965" hR="21600" stAng="-5697621" swAng="-510237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Curved Right Arrow 33"/>
            <p:cNvSpPr/>
            <p:nvPr/>
          </p:nvSpPr>
          <p:spPr>
            <a:xfrm>
              <a:off x="1523880" y="3809880"/>
              <a:ext cx="457200" cy="53316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90360 h 533160"/>
                <a:gd name="textAreaBottom" fmla="*/ 385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29" stAng="-5400000" swAng="-5400000"/>
                  <a:lnTo>
                    <a:pt x="0" y="11958"/>
                  </a:lnTo>
                  <a:arcTo wR="21600" hR="7329" stAng="10800000" swAng="-3163700"/>
                  <a:lnTo>
                    <a:pt x="16200" y="21367"/>
                  </a:lnTo>
                  <a:lnTo>
                    <a:pt x="21600" y="16972"/>
                  </a:lnTo>
                  <a:lnTo>
                    <a:pt x="16200" y="12110"/>
                  </a:lnTo>
                  <a:lnTo>
                    <a:pt x="16200" y="14424"/>
                  </a:lnTo>
                  <a:arcTo wR="21600" hR="7329" stAng="7636300" swAng="2777103"/>
                  <a:lnTo>
                    <a:pt x="1106" y="9643"/>
                  </a:lnTo>
                  <a:arcTo wR="21600" hR="7329" stAng="-10413403" swAng="5013403"/>
                  <a:close/>
                </a:path>
                <a:path fill="darkenLess" w="21600" h="21600">
                  <a:moveTo>
                    <a:pt x="21600" y="0"/>
                  </a:moveTo>
                  <a:arcTo wR="21600" hR="7329" stAng="-5400000" swAng="-5400000"/>
                  <a:lnTo>
                    <a:pt x="0" y="7329"/>
                  </a:lnTo>
                  <a:arcTo wR="21600" hR="7329" stAng="10800000" swAng="-386597"/>
                  <a:lnTo>
                    <a:pt x="1106" y="9643"/>
                  </a:lnTo>
                  <a:arcTo wR="21600" hR="7329" stAng="-10413403" swAng="5013403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Curved Up Arrow 34"/>
            <p:cNvSpPr/>
            <p:nvPr/>
          </p:nvSpPr>
          <p:spPr>
            <a:xfrm rot="16200000">
              <a:off x="2659680" y="3816720"/>
              <a:ext cx="533160" cy="366480"/>
            </a:xfrm>
            <a:custGeom>
              <a:avLst/>
              <a:gdLst>
                <a:gd name="textAreaLeft" fmla="*/ 98640 w 533160"/>
                <a:gd name="textAreaRight" fmla="*/ 388440 w 533160"/>
                <a:gd name="textAreaTop" fmla="*/ 48960 h 366480"/>
                <a:gd name="textAreaBottom" fmla="*/ 31752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-3310214"/>
                  <a:lnTo>
                    <a:pt x="21345" y="5400"/>
                  </a:lnTo>
                  <a:lnTo>
                    <a:pt x="17888" y="0"/>
                  </a:lnTo>
                  <a:lnTo>
                    <a:pt x="13920" y="5400"/>
                  </a:lnTo>
                  <a:lnTo>
                    <a:pt x="15776" y="5400"/>
                  </a:lnTo>
                  <a:arcTo wR="8016" hR="21600" stAng="2089786" swAng="3007270"/>
                  <a:lnTo>
                    <a:pt x="9872" y="21013"/>
                  </a:lnTo>
                  <a:arcTo wR="8016" hR="21600" stAng="5702944" swAng="5097056"/>
                  <a:close/>
                </a:path>
                <a:path fill="darkenLess"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302944"/>
                  <a:lnTo>
                    <a:pt x="9872" y="21013"/>
                  </a:lnTo>
                  <a:arcTo wR="8016" hR="21600" stAng="5702944" swAng="5097056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urved Right Arrow 35"/>
            <p:cNvSpPr/>
            <p:nvPr/>
          </p:nvSpPr>
          <p:spPr>
            <a:xfrm rot="4648800">
              <a:off x="1741680" y="4014720"/>
              <a:ext cx="250560" cy="959040"/>
            </a:xfrm>
            <a:custGeom>
              <a:avLst/>
              <a:gdLst>
                <a:gd name="textAreaLeft" fmla="*/ 33480 w 250560"/>
                <a:gd name="textAreaRight" fmla="*/ 217080 w 250560"/>
                <a:gd name="textAreaTop" fmla="*/ 216000 h 959040"/>
                <a:gd name="textAreaBottom" fmla="*/ 71172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741" stAng="-5400000" swAng="-5400000"/>
                  <a:lnTo>
                    <a:pt x="0" y="11154"/>
                  </a:lnTo>
                  <a:arcTo wR="21600" hR="9741" stAng="10800000" swAng="-3612356"/>
                  <a:lnTo>
                    <a:pt x="16200" y="21291"/>
                  </a:lnTo>
                  <a:lnTo>
                    <a:pt x="21600" y="20188"/>
                  </a:lnTo>
                  <a:lnTo>
                    <a:pt x="16200" y="18466"/>
                  </a:lnTo>
                  <a:lnTo>
                    <a:pt x="16200" y="19172"/>
                  </a:lnTo>
                  <a:arcTo wR="21600" hR="9741" stAng="7187644" swAng="3499657"/>
                  <a:lnTo>
                    <a:pt x="57" y="10447"/>
                  </a:lnTo>
                  <a:arcTo wR="21600" hR="9741" stAng="-10687300" swAng="5287300"/>
                  <a:close/>
                </a:path>
                <a:path fill="darkenLess" w="21600" h="21600">
                  <a:moveTo>
                    <a:pt x="21600" y="0"/>
                  </a:moveTo>
                  <a:arcTo wR="21600" hR="9741" stAng="-5400000" swAng="-5400000"/>
                  <a:lnTo>
                    <a:pt x="0" y="9741"/>
                  </a:lnTo>
                  <a:arcTo wR="21600" hR="9741" stAng="10800000" swAng="-112700"/>
                  <a:lnTo>
                    <a:pt x="57" y="10447"/>
                  </a:lnTo>
                  <a:arcTo wR="21600" hR="9741" stAng="-10687300" swAng="5287300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ircular Arrow 36"/>
            <p:cNvSpPr/>
            <p:nvPr/>
          </p:nvSpPr>
          <p:spPr>
            <a:xfrm rot="16459800">
              <a:off x="1577520" y="2724120"/>
              <a:ext cx="457200" cy="5331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ircular Arrow 37"/>
            <p:cNvSpPr/>
            <p:nvPr/>
          </p:nvSpPr>
          <p:spPr>
            <a:xfrm flipV="1" rot="16039800">
              <a:off x="2499840" y="2704680"/>
              <a:ext cx="460080" cy="5619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419720" y="1752480"/>
            <a:ext cx="40528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one – Induces a vortex and draws solution down from zone 1 and forces solution to cylinder sides and into zone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rd Zone – This zone gently blends the active polymer solution before it exits the cha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urved Down Arrow 4"/>
          <p:cNvSpPr/>
          <p:nvPr/>
        </p:nvSpPr>
        <p:spPr>
          <a:xfrm>
            <a:off x="2514600" y="2971800"/>
            <a:ext cx="609480" cy="304920"/>
          </a:xfrm>
          <a:custGeom>
            <a:avLst/>
            <a:gdLst>
              <a:gd name="textAreaLeft" fmla="*/ 123840 w 609480"/>
              <a:gd name="textAreaRight" fmla="*/ 44784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urved Down Arrow 5"/>
          <p:cNvSpPr/>
          <p:nvPr/>
        </p:nvSpPr>
        <p:spPr>
          <a:xfrm rot="10401600">
            <a:off x="2380680" y="3355200"/>
            <a:ext cx="679320" cy="297000"/>
          </a:xfrm>
          <a:custGeom>
            <a:avLst/>
            <a:gdLst>
              <a:gd name="textAreaLeft" fmla="*/ 141840 w 679320"/>
              <a:gd name="textAreaRight" fmla="*/ 500400 w 679320"/>
              <a:gd name="textAreaTop" fmla="*/ 39600 h 297000"/>
              <a:gd name="textAreaBottom" fmla="*/ 257400 h 297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31" hR="21600" stAng="10800000" swAng="5400000"/>
                <a:lnTo>
                  <a:pt x="11390" y="0"/>
                </a:lnTo>
                <a:arcTo wR="9031" hR="21600" stAng="-5400000" swAng="3498070"/>
                <a:lnTo>
                  <a:pt x="21313" y="16200"/>
                </a:lnTo>
                <a:lnTo>
                  <a:pt x="19241" y="21600"/>
                </a:lnTo>
                <a:lnTo>
                  <a:pt x="16594" y="16200"/>
                </a:lnTo>
                <a:lnTo>
                  <a:pt x="17774" y="16200"/>
                </a:lnTo>
                <a:arcTo wR="9031" hR="21600" stAng="-1901930" swAng="-3308916"/>
                <a:lnTo>
                  <a:pt x="10210" y="185"/>
                </a:lnTo>
                <a:arcTo wR="9031" hR="21600" stAng="-5589154" swAng="-5210846"/>
                <a:close/>
              </a:path>
              <a:path fill="darkenLess" w="21600" h="21600">
                <a:moveTo>
                  <a:pt x="0" y="21600"/>
                </a:moveTo>
                <a:arcTo wR="9031" hR="21600" stAng="10800000" swAng="5400000"/>
                <a:lnTo>
                  <a:pt x="9031" y="0"/>
                </a:lnTo>
                <a:arcTo wR="9031" hR="21600" stAng="-5400000" swAng="189154"/>
                <a:lnTo>
                  <a:pt x="10210" y="185"/>
                </a:lnTo>
                <a:arcTo wR="9031" hR="21600" stAng="-5589154" swAng="-5210846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 Mixing Cha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1219320" y="6019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x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838080" y="1676160"/>
            <a:ext cx="2914920" cy="4190760"/>
            <a:chOff x="838080" y="1676160"/>
            <a:chExt cx="2914920" cy="4190760"/>
          </a:xfrm>
        </p:grpSpPr>
        <p:pic>
          <p:nvPicPr>
            <p:cNvPr id="211" name="Picture 2" descr=""/>
            <p:cNvPicPr/>
            <p:nvPr/>
          </p:nvPicPr>
          <p:blipFill>
            <a:blip r:embed="rId1"/>
            <a:stretch/>
          </p:blipFill>
          <p:spPr>
            <a:xfrm rot="16200000">
              <a:off x="200160" y="2314080"/>
              <a:ext cx="4190760" cy="29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Curved Down Arrow 12"/>
            <p:cNvSpPr/>
            <p:nvPr/>
          </p:nvSpPr>
          <p:spPr>
            <a:xfrm flipV="1" rot="10402200">
              <a:off x="2375640" y="3399840"/>
              <a:ext cx="749160" cy="293400"/>
            </a:xfrm>
            <a:custGeom>
              <a:avLst/>
              <a:gdLst>
                <a:gd name="textAreaLeft" fmla="*/ 159480 w 749160"/>
                <a:gd name="textAreaRight" fmla="*/ 552960 w 749160"/>
                <a:gd name="textAreaTop" fmla="*/ 39240 h 293400"/>
                <a:gd name="textAreaBottom" fmla="*/ 2541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13" hR="21600" stAng="10800000" swAng="5400000"/>
                  <a:lnTo>
                    <a:pt x="11330" y="0"/>
                  </a:lnTo>
                  <a:arcTo wR="9213" hR="21600" stAng="-5400000" swAng="3528599"/>
                  <a:lnTo>
                    <a:pt x="21307" y="16200"/>
                  </a:lnTo>
                  <a:lnTo>
                    <a:pt x="19484" y="21600"/>
                  </a:lnTo>
                  <a:lnTo>
                    <a:pt x="17074" y="16200"/>
                  </a:lnTo>
                  <a:lnTo>
                    <a:pt x="18132" y="16200"/>
                  </a:lnTo>
                  <a:arcTo wR="9213" hR="21600" stAng="-1871401" swAng="-3359147"/>
                  <a:lnTo>
                    <a:pt x="10271" y="143"/>
                  </a:lnTo>
                  <a:arcTo wR="9213" hR="21600" stAng="-5569451" swAng="-5230549"/>
                  <a:close/>
                </a:path>
                <a:path fill="darkenLess" w="21600" h="21600">
                  <a:moveTo>
                    <a:pt x="0" y="21600"/>
                  </a:moveTo>
                  <a:arcTo wR="9213" hR="21600" stAng="10800000" swAng="5400000"/>
                  <a:lnTo>
                    <a:pt x="9213" y="0"/>
                  </a:lnTo>
                  <a:arcTo wR="9213" hR="21600" stAng="-5400000" swAng="169451"/>
                  <a:lnTo>
                    <a:pt x="10271" y="143"/>
                  </a:lnTo>
                  <a:arcTo wR="9213" hR="21600" stAng="-5569451" swAng="-523054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Curved Down Arrow 13"/>
            <p:cNvSpPr/>
            <p:nvPr/>
          </p:nvSpPr>
          <p:spPr>
            <a:xfrm rot="1531200">
              <a:off x="1548720" y="3436920"/>
              <a:ext cx="812880" cy="304560"/>
            </a:xfrm>
            <a:custGeom>
              <a:avLst/>
              <a:gdLst>
                <a:gd name="textAreaLeft" fmla="*/ 174600 w 812880"/>
                <a:gd name="textAreaRight" fmla="*/ 600120 w 81288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1" hR="21600" stAng="10800000" swAng="5400000"/>
                  <a:lnTo>
                    <a:pt x="11307" y="0"/>
                  </a:lnTo>
                  <a:arcTo wR="9281" hR="21600" stAng="-5400000" swAng="3539862"/>
                  <a:lnTo>
                    <a:pt x="21305" y="16200"/>
                  </a:lnTo>
                  <a:lnTo>
                    <a:pt x="19575" y="21600"/>
                  </a:lnTo>
                  <a:lnTo>
                    <a:pt x="17255" y="16200"/>
                  </a:lnTo>
                  <a:lnTo>
                    <a:pt x="18267" y="16200"/>
                  </a:lnTo>
                  <a:arcTo wR="9281" hR="21600" stAng="-1860138" swAng="-3377789"/>
                  <a:lnTo>
                    <a:pt x="10294" y="129"/>
                  </a:lnTo>
                  <a:arcTo wR="9281" hR="21600" stAng="-5562073" swAng="-5237927"/>
                  <a:close/>
                </a:path>
                <a:path fill="darkenLess" w="21600" h="21600">
                  <a:moveTo>
                    <a:pt x="0" y="21600"/>
                  </a:moveTo>
                  <a:arcTo wR="9281" hR="21600" stAng="10800000" swAng="5400000"/>
                  <a:lnTo>
                    <a:pt x="9281" y="0"/>
                  </a:lnTo>
                  <a:arcTo wR="9281" hR="21600" stAng="-5400000" swAng="162073"/>
                  <a:lnTo>
                    <a:pt x="10294" y="129"/>
                  </a:lnTo>
                  <a:arcTo wR="9281" hR="21600" stAng="-5562073" swAng="-523792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Curved Down Arrow 14"/>
            <p:cNvSpPr/>
            <p:nvPr/>
          </p:nvSpPr>
          <p:spPr>
            <a:xfrm rot="1531200">
              <a:off x="2308320" y="4215960"/>
              <a:ext cx="897120" cy="304560"/>
            </a:xfrm>
            <a:custGeom>
              <a:avLst/>
              <a:gdLst>
                <a:gd name="textAreaLeft" fmla="*/ 186120 w 897120"/>
                <a:gd name="textAreaRight" fmla="*/ 711000 w 89712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5" hR="21600" stAng="10800000" swAng="5400000"/>
                  <a:lnTo>
                    <a:pt x="12635" y="0"/>
                  </a:lnTo>
                  <a:arcTo wR="8965" hR="21600" stAng="-5400000" swAng="3486864"/>
                  <a:lnTo>
                    <a:pt x="21315" y="16200"/>
                  </a:lnTo>
                  <a:lnTo>
                    <a:pt x="19765" y="21600"/>
                  </a:lnTo>
                  <a:lnTo>
                    <a:pt x="17645" y="16200"/>
                  </a:lnTo>
                  <a:lnTo>
                    <a:pt x="17645" y="16200"/>
                  </a:lnTo>
                  <a:arcTo wR="8965" hR="21600" stAng="-1913136" swAng="-3189243"/>
                  <a:lnTo>
                    <a:pt x="10800" y="457"/>
                  </a:lnTo>
                  <a:arcTo wR="8965" hR="21600" stAng="-5697621" swAng="-5102379"/>
                  <a:close/>
                </a:path>
                <a:path fill="darkenLess" w="21600" h="21600">
                  <a:moveTo>
                    <a:pt x="0" y="21600"/>
                  </a:moveTo>
                  <a:arcTo wR="8965" hR="21600" stAng="10800000" swAng="5400000"/>
                  <a:lnTo>
                    <a:pt x="8965" y="0"/>
                  </a:lnTo>
                  <a:arcTo wR="8965" hR="21600" stAng="-5400000" swAng="297621"/>
                  <a:lnTo>
                    <a:pt x="10800" y="457"/>
                  </a:lnTo>
                  <a:arcTo wR="8965" hR="21600" stAng="-5697621" swAng="-5102379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Curved Right Arrow 15"/>
            <p:cNvSpPr/>
            <p:nvPr/>
          </p:nvSpPr>
          <p:spPr>
            <a:xfrm>
              <a:off x="1523880" y="3809880"/>
              <a:ext cx="457200" cy="53316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90360 h 533160"/>
                <a:gd name="textAreaBottom" fmla="*/ 385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29" stAng="-5400000" swAng="-5400000"/>
                  <a:lnTo>
                    <a:pt x="0" y="11958"/>
                  </a:lnTo>
                  <a:arcTo wR="21600" hR="7329" stAng="10800000" swAng="-3163700"/>
                  <a:lnTo>
                    <a:pt x="16200" y="21367"/>
                  </a:lnTo>
                  <a:lnTo>
                    <a:pt x="21600" y="16972"/>
                  </a:lnTo>
                  <a:lnTo>
                    <a:pt x="16200" y="12110"/>
                  </a:lnTo>
                  <a:lnTo>
                    <a:pt x="16200" y="14424"/>
                  </a:lnTo>
                  <a:arcTo wR="21600" hR="7329" stAng="7636300" swAng="2777103"/>
                  <a:lnTo>
                    <a:pt x="1106" y="9643"/>
                  </a:lnTo>
                  <a:arcTo wR="21600" hR="7329" stAng="-10413403" swAng="5013403"/>
                  <a:close/>
                </a:path>
                <a:path fill="darkenLess" w="21600" h="21600">
                  <a:moveTo>
                    <a:pt x="21600" y="0"/>
                  </a:moveTo>
                  <a:arcTo wR="21600" hR="7329" stAng="-5400000" swAng="-5400000"/>
                  <a:lnTo>
                    <a:pt x="0" y="7329"/>
                  </a:lnTo>
                  <a:arcTo wR="21600" hR="7329" stAng="10800000" swAng="-386597"/>
                  <a:lnTo>
                    <a:pt x="1106" y="9643"/>
                  </a:lnTo>
                  <a:arcTo wR="21600" hR="7329" stAng="-10413403" swAng="5013403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Curved Up Arrow 16"/>
            <p:cNvSpPr/>
            <p:nvPr/>
          </p:nvSpPr>
          <p:spPr>
            <a:xfrm rot="16200000">
              <a:off x="2659680" y="3816720"/>
              <a:ext cx="533160" cy="366480"/>
            </a:xfrm>
            <a:custGeom>
              <a:avLst/>
              <a:gdLst>
                <a:gd name="textAreaLeft" fmla="*/ 98640 w 533160"/>
                <a:gd name="textAreaRight" fmla="*/ 388440 w 533160"/>
                <a:gd name="textAreaTop" fmla="*/ 48960 h 366480"/>
                <a:gd name="textAreaBottom" fmla="*/ 31752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-3310214"/>
                  <a:lnTo>
                    <a:pt x="21345" y="5400"/>
                  </a:lnTo>
                  <a:lnTo>
                    <a:pt x="17888" y="0"/>
                  </a:lnTo>
                  <a:lnTo>
                    <a:pt x="13920" y="5400"/>
                  </a:lnTo>
                  <a:lnTo>
                    <a:pt x="15776" y="5400"/>
                  </a:lnTo>
                  <a:arcTo wR="8016" hR="21600" stAng="2089786" swAng="3007270"/>
                  <a:lnTo>
                    <a:pt x="9872" y="21013"/>
                  </a:lnTo>
                  <a:arcTo wR="8016" hR="21600" stAng="5702944" swAng="5097056"/>
                  <a:close/>
                </a:path>
                <a:path fill="darkenLess" w="21600" h="21600">
                  <a:moveTo>
                    <a:pt x="0" y="0"/>
                  </a:moveTo>
                  <a:arcTo wR="8016" hR="21600" stAng="10800000" swAng="-5400000"/>
                  <a:lnTo>
                    <a:pt x="11729" y="21600"/>
                  </a:lnTo>
                  <a:arcTo wR="8016" hR="21600" stAng="5400000" swAng="302944"/>
                  <a:lnTo>
                    <a:pt x="9872" y="21013"/>
                  </a:lnTo>
                  <a:arcTo wR="8016" hR="21600" stAng="5702944" swAng="5097056"/>
                  <a:close/>
                </a:path>
              </a:pathLst>
            </a:cu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Curved Right Arrow 17"/>
            <p:cNvSpPr/>
            <p:nvPr/>
          </p:nvSpPr>
          <p:spPr>
            <a:xfrm rot="4648800">
              <a:off x="1741680" y="4014720"/>
              <a:ext cx="250560" cy="959040"/>
            </a:xfrm>
            <a:custGeom>
              <a:avLst/>
              <a:gdLst>
                <a:gd name="textAreaLeft" fmla="*/ 33480 w 250560"/>
                <a:gd name="textAreaRight" fmla="*/ 217080 w 250560"/>
                <a:gd name="textAreaTop" fmla="*/ 216000 h 959040"/>
                <a:gd name="textAreaBottom" fmla="*/ 711720 h 9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741" stAng="-5400000" swAng="-5400000"/>
                  <a:lnTo>
                    <a:pt x="0" y="11154"/>
                  </a:lnTo>
                  <a:arcTo wR="21600" hR="9741" stAng="10800000" swAng="-3612356"/>
                  <a:lnTo>
                    <a:pt x="16200" y="21291"/>
                  </a:lnTo>
                  <a:lnTo>
                    <a:pt x="21600" y="20188"/>
                  </a:lnTo>
                  <a:lnTo>
                    <a:pt x="16200" y="18466"/>
                  </a:lnTo>
                  <a:lnTo>
                    <a:pt x="16200" y="19172"/>
                  </a:lnTo>
                  <a:arcTo wR="21600" hR="9741" stAng="7187644" swAng="3499657"/>
                  <a:lnTo>
                    <a:pt x="57" y="10447"/>
                  </a:lnTo>
                  <a:arcTo wR="21600" hR="9741" stAng="-10687300" swAng="5287300"/>
                  <a:close/>
                </a:path>
                <a:path fill="darkenLess" w="21600" h="21600">
                  <a:moveTo>
                    <a:pt x="21600" y="0"/>
                  </a:moveTo>
                  <a:arcTo wR="21600" hR="9741" stAng="-5400000" swAng="-5400000"/>
                  <a:lnTo>
                    <a:pt x="0" y="9741"/>
                  </a:lnTo>
                  <a:arcTo wR="21600" hR="9741" stAng="10800000" swAng="-112700"/>
                  <a:lnTo>
                    <a:pt x="57" y="10447"/>
                  </a:lnTo>
                  <a:arcTo wR="21600" hR="9741" stAng="-10687300" swAng="5287300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Circular Arrow 20"/>
            <p:cNvSpPr/>
            <p:nvPr/>
          </p:nvSpPr>
          <p:spPr>
            <a:xfrm rot="16459800">
              <a:off x="1577520" y="2724120"/>
              <a:ext cx="457200" cy="5331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Circular Arrow 21"/>
            <p:cNvSpPr/>
            <p:nvPr/>
          </p:nvSpPr>
          <p:spPr>
            <a:xfrm flipV="1" rot="16039800">
              <a:off x="2499840" y="2704680"/>
              <a:ext cx="460080" cy="561960"/>
            </a:xfrm>
            <a:prstGeom prst="pi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 Mixing Cha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3429000" y="5715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748240" cy="3990960"/>
          </a:xfrm>
          <a:prstGeom prst="rect">
            <a:avLst/>
          </a:prstGeom>
          <a:ln w="0">
            <a:noFill/>
          </a:ln>
        </p:spPr>
      </p:pic>
      <p:sp>
        <p:nvSpPr>
          <p:cNvPr id="223" name="Right Arrow 16"/>
          <p:cNvSpPr/>
          <p:nvPr/>
        </p:nvSpPr>
        <p:spPr>
          <a:xfrm>
            <a:off x="2438280" y="2819520"/>
            <a:ext cx="1447920" cy="3808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ight Arrow 17"/>
          <p:cNvSpPr/>
          <p:nvPr/>
        </p:nvSpPr>
        <p:spPr>
          <a:xfrm>
            <a:off x="2438280" y="3581280"/>
            <a:ext cx="1447920" cy="38124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ight Arrow 18"/>
          <p:cNvSpPr/>
          <p:nvPr/>
        </p:nvSpPr>
        <p:spPr>
          <a:xfrm>
            <a:off x="2438280" y="4495680"/>
            <a:ext cx="1447920" cy="38124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533520" y="2514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hear B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533520" y="32767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Inducing  B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533520" y="4191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nding Bl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ight Arrow 22"/>
          <p:cNvSpPr/>
          <p:nvPr/>
        </p:nvSpPr>
        <p:spPr>
          <a:xfrm rot="10800000">
            <a:off x="4876560" y="4723920"/>
            <a:ext cx="144756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3"/>
          <p:cNvSpPr/>
          <p:nvPr/>
        </p:nvSpPr>
        <p:spPr>
          <a:xfrm>
            <a:off x="6019920" y="4343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er Solution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ight Arrow 24"/>
          <p:cNvSpPr/>
          <p:nvPr/>
        </p:nvSpPr>
        <p:spPr>
          <a:xfrm rot="10800000">
            <a:off x="5105160" y="1523520"/>
            <a:ext cx="144756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6019920" y="19051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upled 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Sealed Be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-M Series B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609480" y="1676520"/>
            <a:ext cx="7467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pa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solution percentage output based on total unit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of water flow al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polymer flow – standard with Delta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&amp; Secondary Flow r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flush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20ma input to pace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Start/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alarm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system status and operating conditions via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-M Se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762120" y="2590920"/>
            <a:ext cx="769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609480" y="1600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iaphragm and PC Pump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43520" cy="217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3:09:38Z</dcterms:created>
  <dc:creator>Ed Thomas</dc:creator>
  <dc:description/>
  <dc:language>en-US</dc:language>
  <cp:lastModifiedBy>None None</cp:lastModifiedBy>
  <dcterms:modified xsi:type="dcterms:W3CDTF">2010-04-01T16:51:16Z</dcterms:modified>
  <cp:revision>197</cp:revision>
  <dc:subject>Understanding Polymer &amp; Activation</dc:subject>
  <dc:title>ProMinent ProMix Polymer System</dc:title>
</cp:coreProperties>
</file>