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6.jpeg" ContentType="image/jpeg"/>
  <Override PartName="/ppt/media/image19.png" ContentType="image/png"/>
  <Override PartName="/ppt/media/image24.wmf" ContentType="image/x-wmf"/>
  <Override PartName="/ppt/media/image23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F92-B75E-474A-8F86-308E08E3A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22B-2CEC-481D-8909-05363D75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79C0-1AB2-4787-9021-64B9984A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931-5857-4068-A471-0A65F9E5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01F6-0C63-4C9E-86ED-62F810BF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6723-44F1-4607-B884-08637FBCA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5A5A-93A1-4972-9129-41272C921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37AE-60EB-4E67-846F-95CB1F50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B446-46D8-4EA3-B44A-B888BCE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1309-9CF6-46B2-B5DA-2A9B2DA1FF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6E81-6EDC-4033-84B7-F7CFE295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E412-6D69-4E54-8109-6F7C9125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7BE0-FCBA-4E01-AE59-7226E971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294A-1D19-4CE0-9DE8-EC9F95FF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F37E-F589-40A0-A3B7-950C3278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CB3B-5FE4-4AF8-B60E-D8ECBF0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E990-32D0-430A-B2F3-6739DAA9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E42A-F63C-4EC2-812D-3B6AD3C6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930-E4CD-45F9-B3B2-45434E8884CF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8920" y="1100160"/>
            <a:ext cx="2229840" cy="122040"/>
            <a:chOff x="5938920" y="1100160"/>
            <a:chExt cx="22298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89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600084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3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868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6872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4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49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37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crison.com/pages/pro_volfed_02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crison.com/pages/pro_ww_02.html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acrison.com/pages/pro_ww_05.html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M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lym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ptune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blend, Komax, Semblex, Dyna-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ng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bidding against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t settled on product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&amp;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ptune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www.neptune1.com/pumps/images/poly1.jpg"/>
          <p:cNvPicPr/>
          <p:nvPr/>
        </p:nvPicPr>
        <p:blipFill>
          <a:blip r:embed="rId1"/>
          <a:stretch/>
        </p:blipFill>
        <p:spPr>
          <a:xfrm>
            <a:off x="0" y="1371600"/>
            <a:ext cx="2346480" cy="2895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http://www.neptune1.com/pumps/images/nimbleskid.jpg"/>
          <p:cNvPicPr/>
          <p:nvPr/>
        </p:nvPicPr>
        <p:blipFill>
          <a:blip r:embed="rId2"/>
          <a:stretch/>
        </p:blipFill>
        <p:spPr>
          <a:xfrm>
            <a:off x="4724280" y="1371600"/>
            <a:ext cx="1752840" cy="262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dynaBLEND L6-P"/>
          <p:cNvPicPr/>
          <p:nvPr/>
        </p:nvPicPr>
        <p:blipFill>
          <a:blip r:embed="rId3"/>
          <a:stretch/>
        </p:blipFill>
        <p:spPr>
          <a:xfrm>
            <a:off x="2438280" y="1905120"/>
            <a:ext cx="2133720" cy="4190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dynaJET feeder skid with BU Hopper and Dust Collection System"/>
          <p:cNvPicPr/>
          <p:nvPr/>
        </p:nvPicPr>
        <p:blipFill>
          <a:blip r:embed="rId4"/>
          <a:stretch/>
        </p:blipFill>
        <p:spPr>
          <a:xfrm>
            <a:off x="6095880" y="3200400"/>
            <a:ext cx="26226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fl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t settled on product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ing to play in municip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ong rep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able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applicatio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fl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http://www.chemflow.com/web/products.nsf/70e844e36c0d5b21882568270069609d/08969213cfe12c26882568270063fb73/Picture/0.7C?OpenElement&amp;FieldElemFormat=gif"/>
          <p:cNvPicPr/>
          <p:nvPr/>
        </p:nvPicPr>
        <p:blipFill>
          <a:blip r:embed="rId1"/>
          <a:stretch/>
        </p:blipFill>
        <p:spPr>
          <a:xfrm>
            <a:off x="457200" y="1600200"/>
            <a:ext cx="4191120" cy="4116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http://www.chemflow.com/web/cfhome2.nsf/Dry.jpg?OpenImageResource"/>
          <p:cNvPicPr/>
          <p:nvPr/>
        </p:nvPicPr>
        <p:blipFill>
          <a:blip r:embed="rId2"/>
          <a:stretch/>
        </p:blipFill>
        <p:spPr>
          <a:xfrm>
            <a:off x="4876920" y="1676520"/>
            <a:ext cx="3124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che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 pape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bid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company on mar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che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Norchem Industries"/>
          <p:cNvPicPr/>
          <p:nvPr/>
        </p:nvPicPr>
        <p:blipFill>
          <a:blip r:embed="rId1"/>
          <a:stretch/>
        </p:blipFill>
        <p:spPr>
          <a:xfrm>
            <a:off x="1523880" y="1752480"/>
            <a:ext cx="563904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 – Hummix – Enpro – (New Dynablen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in all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l rep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rry pick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ball bid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ynablend establishing rep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pro has original PB designer on retainer – New pa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914400" y="1600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focus o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hort te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600200" y="2286000"/>
            <a:ext cx="541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ret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685800" y="1600200"/>
            <a:ext cx="746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close projects to develop installa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“try &amp; bu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polymer &amp; product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high market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S-series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– Where does it 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914400" y="2286000"/>
            <a:ext cx="731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applications for present size system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r Applications up to about 5 M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rotary drum thickene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gravity belt thickener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1 meter belt pres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us Remov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ester Sludge thick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ing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's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914400" y="1600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828800" y="2362320"/>
            <a:ext cx="5715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strategy and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o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M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S-series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– Where does it 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914400" y="228600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applications for present size system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r Applications up to about 5 M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sand Filters – Continuous backwashing sand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ined Plate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Filter po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us Remov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ester Sludge thick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Centrifuges (refinery oily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able Water make-up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g Industry waste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pb"/>
          <p:cNvPicPr/>
          <p:nvPr/>
        </p:nvPicPr>
        <p:blipFill>
          <a:blip r:embed="rId1"/>
          <a:stretch/>
        </p:blipFill>
        <p:spPr>
          <a:xfrm>
            <a:off x="1143000" y="1676520"/>
            <a:ext cx="2451240" cy="39988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0"/>
          <p:cNvSpPr/>
          <p:nvPr/>
        </p:nvSpPr>
        <p:spPr>
          <a:xfrm>
            <a:off x="838080" y="5943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PB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4572000" y="16002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difficult to access for repa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pump replacement – usually ends up as outboard pump when repla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4572000" y="3048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 chamber must be disassembled to clean check va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4572000" y="41911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 Drive &amp; Mechanical Seal failures can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4572000" y="51055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MI pump with n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838080" y="5943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PB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4572000" y="19810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 is only 2 Zones – the ProMix has a true 3 Zone mixing chamber to give a tapered mixing energy cur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4648320" y="3657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 chamber must be disassembled to clean check va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pb mixer copy1"/>
          <p:cNvPicPr/>
          <p:nvPr/>
        </p:nvPicPr>
        <p:blipFill>
          <a:blip r:embed="rId1"/>
          <a:stretch/>
        </p:blipFill>
        <p:spPr>
          <a:xfrm rot="6601200">
            <a:off x="546480" y="2094480"/>
            <a:ext cx="372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419720" y="1752480"/>
            <a:ext cx="40528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stinct mixing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mixing blades to deliver prope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one – Blade delivers high shear at precise point of polymer injection, creating immediate dispersion before agglomeration takes place. Induced back mixing eliminates short circ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2193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838080" y="1676160"/>
            <a:ext cx="2914920" cy="4190760"/>
            <a:chOff x="838080" y="1676160"/>
            <a:chExt cx="2914920" cy="4190760"/>
          </a:xfrm>
        </p:grpSpPr>
        <p:pic>
          <p:nvPicPr>
            <p:cNvPr id="263" name="Picture 2" descr=""/>
            <p:cNvPicPr/>
            <p:nvPr/>
          </p:nvPicPr>
          <p:blipFill>
            <a:blip r:embed="rId1"/>
            <a:stretch/>
          </p:blipFill>
          <p:spPr>
            <a:xfrm rot="16200000">
              <a:off x="200160" y="2314080"/>
              <a:ext cx="419076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Curved Down Arrow 30"/>
            <p:cNvSpPr/>
            <p:nvPr/>
          </p:nvSpPr>
          <p:spPr>
            <a:xfrm flipV="1" rot="10402200">
              <a:off x="2375640" y="3399840"/>
              <a:ext cx="749160" cy="293400"/>
            </a:xfrm>
            <a:custGeom>
              <a:avLst/>
              <a:gdLst>
                <a:gd name="textAreaLeft" fmla="*/ 159480 w 749160"/>
                <a:gd name="textAreaRight" fmla="*/ 552960 w 74916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13" hR="21600" stAng="10800000" swAng="5400000"/>
                  <a:lnTo>
                    <a:pt x="11330" y="0"/>
                  </a:lnTo>
                  <a:arcTo wR="9213" hR="21600" stAng="-5400000" swAng="3528599"/>
                  <a:lnTo>
                    <a:pt x="21307" y="16200"/>
                  </a:lnTo>
                  <a:lnTo>
                    <a:pt x="19484" y="21600"/>
                  </a:lnTo>
                  <a:lnTo>
                    <a:pt x="17074" y="16200"/>
                  </a:lnTo>
                  <a:lnTo>
                    <a:pt x="18132" y="16200"/>
                  </a:lnTo>
                  <a:arcTo wR="9213" hR="21600" stAng="-1871401" swAng="-3359147"/>
                  <a:lnTo>
                    <a:pt x="10271" y="143"/>
                  </a:lnTo>
                  <a:arcTo wR="9213" hR="21600" stAng="-5569451" swAng="-5230549"/>
                  <a:close/>
                </a:path>
                <a:path fill="darkenLess" w="21600" h="21600">
                  <a:moveTo>
                    <a:pt x="0" y="21600"/>
                  </a:moveTo>
                  <a:arcTo wR="9213" hR="21600" stAng="10800000" swAng="5400000"/>
                  <a:lnTo>
                    <a:pt x="9213" y="0"/>
                  </a:lnTo>
                  <a:arcTo wR="9213" hR="21600" stAng="-5400000" swAng="169451"/>
                  <a:lnTo>
                    <a:pt x="10271" y="143"/>
                  </a:lnTo>
                  <a:arcTo wR="9213" hR="21600" stAng="-5569451" swAng="-523054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Curved Down Arrow 31"/>
            <p:cNvSpPr/>
            <p:nvPr/>
          </p:nvSpPr>
          <p:spPr>
            <a:xfrm rot="1531200">
              <a:off x="1548720" y="3436920"/>
              <a:ext cx="812880" cy="304560"/>
            </a:xfrm>
            <a:custGeom>
              <a:avLst/>
              <a:gdLst>
                <a:gd name="textAreaLeft" fmla="*/ 174600 w 812880"/>
                <a:gd name="textAreaRight" fmla="*/ 600120 w 8128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1" hR="21600" stAng="10800000" swAng="5400000"/>
                  <a:lnTo>
                    <a:pt x="11307" y="0"/>
                  </a:lnTo>
                  <a:arcTo wR="9281" hR="21600" stAng="-5400000" swAng="3539862"/>
                  <a:lnTo>
                    <a:pt x="21305" y="16200"/>
                  </a:lnTo>
                  <a:lnTo>
                    <a:pt x="19575" y="21600"/>
                  </a:lnTo>
                  <a:lnTo>
                    <a:pt x="17255" y="16200"/>
                  </a:lnTo>
                  <a:lnTo>
                    <a:pt x="18267" y="16200"/>
                  </a:lnTo>
                  <a:arcTo wR="9281" hR="21600" stAng="-1860138" swAng="-3377789"/>
                  <a:lnTo>
                    <a:pt x="10294" y="129"/>
                  </a:lnTo>
                  <a:arcTo wR="9281" hR="21600" stAng="-5562073" swAng="-5237927"/>
                  <a:close/>
                </a:path>
                <a:path fill="darkenLess" w="21600" h="21600">
                  <a:moveTo>
                    <a:pt x="0" y="21600"/>
                  </a:moveTo>
                  <a:arcTo wR="9281" hR="21600" stAng="10800000" swAng="5400000"/>
                  <a:lnTo>
                    <a:pt x="9281" y="0"/>
                  </a:lnTo>
                  <a:arcTo wR="9281" hR="21600" stAng="-5400000" swAng="162073"/>
                  <a:lnTo>
                    <a:pt x="10294" y="129"/>
                  </a:lnTo>
                  <a:arcTo wR="9281" hR="21600" stAng="-5562073" swAng="-523792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Curved Down Arrow 32"/>
            <p:cNvSpPr/>
            <p:nvPr/>
          </p:nvSpPr>
          <p:spPr>
            <a:xfrm rot="1531200">
              <a:off x="2308320" y="4215960"/>
              <a:ext cx="897120" cy="304560"/>
            </a:xfrm>
            <a:custGeom>
              <a:avLst/>
              <a:gdLst>
                <a:gd name="textAreaLeft" fmla="*/ 186120 w 897120"/>
                <a:gd name="textAreaRight" fmla="*/ 711000 w 8971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5" hR="21600" stAng="10800000" swAng="5400000"/>
                  <a:lnTo>
                    <a:pt x="12635" y="0"/>
                  </a:lnTo>
                  <a:arcTo wR="8965" hR="21600" stAng="-5400000" swAng="3486864"/>
                  <a:lnTo>
                    <a:pt x="21315" y="16200"/>
                  </a:lnTo>
                  <a:lnTo>
                    <a:pt x="19765" y="21600"/>
                  </a:lnTo>
                  <a:lnTo>
                    <a:pt x="17645" y="16200"/>
                  </a:lnTo>
                  <a:lnTo>
                    <a:pt x="17645" y="16200"/>
                  </a:lnTo>
                  <a:arcTo wR="8965" hR="21600" stAng="-1913136" swAng="-3189243"/>
                  <a:lnTo>
                    <a:pt x="10800" y="457"/>
                  </a:lnTo>
                  <a:arcTo wR="8965" hR="21600" stAng="-5697621" swAng="-5102379"/>
                  <a:close/>
                </a:path>
                <a:path fill="darkenLess" w="21600" h="21600">
                  <a:moveTo>
                    <a:pt x="0" y="21600"/>
                  </a:moveTo>
                  <a:arcTo wR="8965" hR="21600" stAng="10800000" swAng="5400000"/>
                  <a:lnTo>
                    <a:pt x="8965" y="0"/>
                  </a:lnTo>
                  <a:arcTo wR="8965" hR="21600" stAng="-5400000" swAng="297621"/>
                  <a:lnTo>
                    <a:pt x="10800" y="457"/>
                  </a:lnTo>
                  <a:arcTo wR="8965" hR="21600" stAng="-5697621" swAng="-510237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Curved Right Arrow 33"/>
            <p:cNvSpPr/>
            <p:nvPr/>
          </p:nvSpPr>
          <p:spPr>
            <a:xfrm>
              <a:off x="1523880" y="3809880"/>
              <a:ext cx="457200" cy="5331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90360 h 533160"/>
                <a:gd name="textAreaBottom" fmla="*/ 385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29" stAng="-5400000" swAng="-5400000"/>
                  <a:lnTo>
                    <a:pt x="0" y="11958"/>
                  </a:lnTo>
                  <a:arcTo wR="21600" hR="7329" stAng="10800000" swAng="-3163700"/>
                  <a:lnTo>
                    <a:pt x="16200" y="21367"/>
                  </a:lnTo>
                  <a:lnTo>
                    <a:pt x="21600" y="16972"/>
                  </a:lnTo>
                  <a:lnTo>
                    <a:pt x="16200" y="12110"/>
                  </a:lnTo>
                  <a:lnTo>
                    <a:pt x="16200" y="14424"/>
                  </a:lnTo>
                  <a:arcTo wR="21600" hR="7329" stAng="7636300" swAng="2777103"/>
                  <a:lnTo>
                    <a:pt x="1106" y="9643"/>
                  </a:lnTo>
                  <a:arcTo wR="21600" hR="7329" stAng="-10413403" swAng="5013403"/>
                  <a:close/>
                </a:path>
                <a:path fill="darkenLess" w="21600" h="21600">
                  <a:moveTo>
                    <a:pt x="21600" y="0"/>
                  </a:moveTo>
                  <a:arcTo wR="21600" hR="7329" stAng="-5400000" swAng="-5400000"/>
                  <a:lnTo>
                    <a:pt x="0" y="7329"/>
                  </a:lnTo>
                  <a:arcTo wR="21600" hR="7329" stAng="10800000" swAng="-386597"/>
                  <a:lnTo>
                    <a:pt x="1106" y="9643"/>
                  </a:lnTo>
                  <a:arcTo wR="21600" hR="7329" stAng="-10413403" swAng="50134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Curved Up Arrow 34"/>
            <p:cNvSpPr/>
            <p:nvPr/>
          </p:nvSpPr>
          <p:spPr>
            <a:xfrm rot="16200000">
              <a:off x="2659680" y="3816720"/>
              <a:ext cx="533160" cy="366480"/>
            </a:xfrm>
            <a:custGeom>
              <a:avLst/>
              <a:gdLst>
                <a:gd name="textAreaLeft" fmla="*/ 98640 w 533160"/>
                <a:gd name="textAreaRight" fmla="*/ 388440 w 533160"/>
                <a:gd name="textAreaTop" fmla="*/ 48960 h 366480"/>
                <a:gd name="textAreaBottom" fmla="*/ 31752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-3310214"/>
                  <a:lnTo>
                    <a:pt x="21345" y="5400"/>
                  </a:lnTo>
                  <a:lnTo>
                    <a:pt x="17888" y="0"/>
                  </a:lnTo>
                  <a:lnTo>
                    <a:pt x="13920" y="5400"/>
                  </a:lnTo>
                  <a:lnTo>
                    <a:pt x="15776" y="5400"/>
                  </a:lnTo>
                  <a:arcTo wR="8016" hR="21600" stAng="2089786" swAng="3007270"/>
                  <a:lnTo>
                    <a:pt x="9872" y="21013"/>
                  </a:lnTo>
                  <a:arcTo wR="8016" hR="21600" stAng="5702944" swAng="5097056"/>
                  <a:close/>
                </a:path>
                <a:path fill="darkenLess"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302944"/>
                  <a:lnTo>
                    <a:pt x="9872" y="21013"/>
                  </a:lnTo>
                  <a:arcTo wR="8016" hR="21600" stAng="5702944" swAng="509705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Curved Right Arrow 35"/>
            <p:cNvSpPr/>
            <p:nvPr/>
          </p:nvSpPr>
          <p:spPr>
            <a:xfrm rot="4648800">
              <a:off x="1741680" y="4014720"/>
              <a:ext cx="250560" cy="959040"/>
            </a:xfrm>
            <a:custGeom>
              <a:avLst/>
              <a:gdLst>
                <a:gd name="textAreaLeft" fmla="*/ 33480 w 250560"/>
                <a:gd name="textAreaRight" fmla="*/ 217080 w 250560"/>
                <a:gd name="textAreaTop" fmla="*/ 216000 h 959040"/>
                <a:gd name="textAreaBottom" fmla="*/ 71172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741" stAng="-5400000" swAng="-5400000"/>
                  <a:lnTo>
                    <a:pt x="0" y="11154"/>
                  </a:lnTo>
                  <a:arcTo wR="21600" hR="9741" stAng="10800000" swAng="-3612356"/>
                  <a:lnTo>
                    <a:pt x="16200" y="21291"/>
                  </a:lnTo>
                  <a:lnTo>
                    <a:pt x="21600" y="20188"/>
                  </a:lnTo>
                  <a:lnTo>
                    <a:pt x="16200" y="18466"/>
                  </a:lnTo>
                  <a:lnTo>
                    <a:pt x="16200" y="19172"/>
                  </a:lnTo>
                  <a:arcTo wR="21600" hR="9741" stAng="7187644" swAng="3499657"/>
                  <a:lnTo>
                    <a:pt x="57" y="10447"/>
                  </a:lnTo>
                  <a:arcTo wR="21600" hR="9741" stAng="-10687300" swAng="5287300"/>
                  <a:close/>
                </a:path>
                <a:path fill="darkenLess" w="21600" h="21600">
                  <a:moveTo>
                    <a:pt x="21600" y="0"/>
                  </a:moveTo>
                  <a:arcTo wR="21600" hR="9741" stAng="-5400000" swAng="-5400000"/>
                  <a:lnTo>
                    <a:pt x="0" y="9741"/>
                  </a:lnTo>
                  <a:arcTo wR="21600" hR="9741" stAng="10800000" swAng="-112700"/>
                  <a:lnTo>
                    <a:pt x="57" y="10447"/>
                  </a:lnTo>
                  <a:arcTo wR="21600" hR="9741" stAng="-10687300" swAng="5287300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Circular Arrow 36"/>
            <p:cNvSpPr/>
            <p:nvPr/>
          </p:nvSpPr>
          <p:spPr>
            <a:xfrm rot="16459800">
              <a:off x="1577520" y="2724120"/>
              <a:ext cx="457200" cy="5331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Circular Arrow 37"/>
            <p:cNvSpPr/>
            <p:nvPr/>
          </p:nvSpPr>
          <p:spPr>
            <a:xfrm flipV="1" rot="16039800">
              <a:off x="2499840" y="2704680"/>
              <a:ext cx="460080" cy="5619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419720" y="1752480"/>
            <a:ext cx="40528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one – Induces a vortex and draws solution down from zone 1 and forces solution to cylinder sides and into zone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rd Zone – This zone gently blends the active polymer solution before it exits the cha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urved Down Arrow 4"/>
          <p:cNvSpPr/>
          <p:nvPr/>
        </p:nvSpPr>
        <p:spPr>
          <a:xfrm>
            <a:off x="2514600" y="2971800"/>
            <a:ext cx="609480" cy="304920"/>
          </a:xfrm>
          <a:custGeom>
            <a:avLst/>
            <a:gdLst>
              <a:gd name="textAreaLeft" fmla="*/ 123840 w 609480"/>
              <a:gd name="textAreaRight" fmla="*/ 44784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urved Down Arrow 5"/>
          <p:cNvSpPr/>
          <p:nvPr/>
        </p:nvSpPr>
        <p:spPr>
          <a:xfrm rot="10401600">
            <a:off x="2380680" y="3355200"/>
            <a:ext cx="679320" cy="297000"/>
          </a:xfrm>
          <a:custGeom>
            <a:avLst/>
            <a:gdLst>
              <a:gd name="textAreaLeft" fmla="*/ 141840 w 679320"/>
              <a:gd name="textAreaRight" fmla="*/ 500400 w 679320"/>
              <a:gd name="textAreaTop" fmla="*/ 39600 h 297000"/>
              <a:gd name="textAreaBottom" fmla="*/ 257400 h 297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1" hR="21600" stAng="10800000" swAng="5400000"/>
                <a:lnTo>
                  <a:pt x="11390" y="0"/>
                </a:lnTo>
                <a:arcTo wR="9031" hR="21600" stAng="-5400000" swAng="3498070"/>
                <a:lnTo>
                  <a:pt x="21313" y="16200"/>
                </a:lnTo>
                <a:lnTo>
                  <a:pt x="19241" y="21600"/>
                </a:lnTo>
                <a:lnTo>
                  <a:pt x="16594" y="16200"/>
                </a:lnTo>
                <a:lnTo>
                  <a:pt x="17774" y="16200"/>
                </a:lnTo>
                <a:arcTo wR="9031" hR="21600" stAng="-1901930" swAng="-3308916"/>
                <a:lnTo>
                  <a:pt x="10210" y="185"/>
                </a:lnTo>
                <a:arcTo wR="9031" hR="21600" stAng="-5589154" swAng="-5210846"/>
                <a:close/>
              </a:path>
              <a:path fill="darkenLess" w="21600" h="21600">
                <a:moveTo>
                  <a:pt x="0" y="21600"/>
                </a:moveTo>
                <a:arcTo wR="9031" hR="21600" stAng="10800000" swAng="5400000"/>
                <a:lnTo>
                  <a:pt x="9031" y="0"/>
                </a:lnTo>
                <a:arcTo wR="9031" hR="21600" stAng="-5400000" swAng="189154"/>
                <a:lnTo>
                  <a:pt x="10210" y="185"/>
                </a:lnTo>
                <a:arcTo wR="9031" hR="21600" stAng="-5589154" swAng="-5210846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12193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838080" y="1676160"/>
            <a:ext cx="2914920" cy="4190760"/>
            <a:chOff x="838080" y="1676160"/>
            <a:chExt cx="2914920" cy="4190760"/>
          </a:xfrm>
        </p:grpSpPr>
        <p:pic>
          <p:nvPicPr>
            <p:cNvPr id="278" name="Picture 2" descr=""/>
            <p:cNvPicPr/>
            <p:nvPr/>
          </p:nvPicPr>
          <p:blipFill>
            <a:blip r:embed="rId1"/>
            <a:stretch/>
          </p:blipFill>
          <p:spPr>
            <a:xfrm rot="16200000">
              <a:off x="200160" y="2314080"/>
              <a:ext cx="419076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Curved Down Arrow 12"/>
            <p:cNvSpPr/>
            <p:nvPr/>
          </p:nvSpPr>
          <p:spPr>
            <a:xfrm flipV="1" rot="10402200">
              <a:off x="2375640" y="3399840"/>
              <a:ext cx="749160" cy="293400"/>
            </a:xfrm>
            <a:custGeom>
              <a:avLst/>
              <a:gdLst>
                <a:gd name="textAreaLeft" fmla="*/ 159480 w 749160"/>
                <a:gd name="textAreaRight" fmla="*/ 552960 w 74916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13" hR="21600" stAng="10800000" swAng="5400000"/>
                  <a:lnTo>
                    <a:pt x="11330" y="0"/>
                  </a:lnTo>
                  <a:arcTo wR="9213" hR="21600" stAng="-5400000" swAng="3528599"/>
                  <a:lnTo>
                    <a:pt x="21307" y="16200"/>
                  </a:lnTo>
                  <a:lnTo>
                    <a:pt x="19484" y="21600"/>
                  </a:lnTo>
                  <a:lnTo>
                    <a:pt x="17074" y="16200"/>
                  </a:lnTo>
                  <a:lnTo>
                    <a:pt x="18132" y="16200"/>
                  </a:lnTo>
                  <a:arcTo wR="9213" hR="21600" stAng="-1871401" swAng="-3359147"/>
                  <a:lnTo>
                    <a:pt x="10271" y="143"/>
                  </a:lnTo>
                  <a:arcTo wR="9213" hR="21600" stAng="-5569451" swAng="-5230549"/>
                  <a:close/>
                </a:path>
                <a:path fill="darkenLess" w="21600" h="21600">
                  <a:moveTo>
                    <a:pt x="0" y="21600"/>
                  </a:moveTo>
                  <a:arcTo wR="9213" hR="21600" stAng="10800000" swAng="5400000"/>
                  <a:lnTo>
                    <a:pt x="9213" y="0"/>
                  </a:lnTo>
                  <a:arcTo wR="9213" hR="21600" stAng="-5400000" swAng="169451"/>
                  <a:lnTo>
                    <a:pt x="10271" y="143"/>
                  </a:lnTo>
                  <a:arcTo wR="9213" hR="21600" stAng="-5569451" swAng="-523054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Curved Down Arrow 13"/>
            <p:cNvSpPr/>
            <p:nvPr/>
          </p:nvSpPr>
          <p:spPr>
            <a:xfrm rot="1531200">
              <a:off x="1548720" y="3436920"/>
              <a:ext cx="812880" cy="304560"/>
            </a:xfrm>
            <a:custGeom>
              <a:avLst/>
              <a:gdLst>
                <a:gd name="textAreaLeft" fmla="*/ 174600 w 812880"/>
                <a:gd name="textAreaRight" fmla="*/ 600120 w 8128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1" hR="21600" stAng="10800000" swAng="5400000"/>
                  <a:lnTo>
                    <a:pt x="11307" y="0"/>
                  </a:lnTo>
                  <a:arcTo wR="9281" hR="21600" stAng="-5400000" swAng="3539862"/>
                  <a:lnTo>
                    <a:pt x="21305" y="16200"/>
                  </a:lnTo>
                  <a:lnTo>
                    <a:pt x="19575" y="21600"/>
                  </a:lnTo>
                  <a:lnTo>
                    <a:pt x="17255" y="16200"/>
                  </a:lnTo>
                  <a:lnTo>
                    <a:pt x="18267" y="16200"/>
                  </a:lnTo>
                  <a:arcTo wR="9281" hR="21600" stAng="-1860138" swAng="-3377789"/>
                  <a:lnTo>
                    <a:pt x="10294" y="129"/>
                  </a:lnTo>
                  <a:arcTo wR="9281" hR="21600" stAng="-5562073" swAng="-5237927"/>
                  <a:close/>
                </a:path>
                <a:path fill="darkenLess" w="21600" h="21600">
                  <a:moveTo>
                    <a:pt x="0" y="21600"/>
                  </a:moveTo>
                  <a:arcTo wR="9281" hR="21600" stAng="10800000" swAng="5400000"/>
                  <a:lnTo>
                    <a:pt x="9281" y="0"/>
                  </a:lnTo>
                  <a:arcTo wR="9281" hR="21600" stAng="-5400000" swAng="162073"/>
                  <a:lnTo>
                    <a:pt x="10294" y="129"/>
                  </a:lnTo>
                  <a:arcTo wR="9281" hR="21600" stAng="-5562073" swAng="-523792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Curved Down Arrow 14"/>
            <p:cNvSpPr/>
            <p:nvPr/>
          </p:nvSpPr>
          <p:spPr>
            <a:xfrm rot="1531200">
              <a:off x="2308320" y="4215960"/>
              <a:ext cx="897120" cy="304560"/>
            </a:xfrm>
            <a:custGeom>
              <a:avLst/>
              <a:gdLst>
                <a:gd name="textAreaLeft" fmla="*/ 186120 w 897120"/>
                <a:gd name="textAreaRight" fmla="*/ 711000 w 8971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5" hR="21600" stAng="10800000" swAng="5400000"/>
                  <a:lnTo>
                    <a:pt x="12635" y="0"/>
                  </a:lnTo>
                  <a:arcTo wR="8965" hR="21600" stAng="-5400000" swAng="3486864"/>
                  <a:lnTo>
                    <a:pt x="21315" y="16200"/>
                  </a:lnTo>
                  <a:lnTo>
                    <a:pt x="19765" y="21600"/>
                  </a:lnTo>
                  <a:lnTo>
                    <a:pt x="17645" y="16200"/>
                  </a:lnTo>
                  <a:lnTo>
                    <a:pt x="17645" y="16200"/>
                  </a:lnTo>
                  <a:arcTo wR="8965" hR="21600" stAng="-1913136" swAng="-3189243"/>
                  <a:lnTo>
                    <a:pt x="10800" y="457"/>
                  </a:lnTo>
                  <a:arcTo wR="8965" hR="21600" stAng="-5697621" swAng="-5102379"/>
                  <a:close/>
                </a:path>
                <a:path fill="darkenLess" w="21600" h="21600">
                  <a:moveTo>
                    <a:pt x="0" y="21600"/>
                  </a:moveTo>
                  <a:arcTo wR="8965" hR="21600" stAng="10800000" swAng="5400000"/>
                  <a:lnTo>
                    <a:pt x="8965" y="0"/>
                  </a:lnTo>
                  <a:arcTo wR="8965" hR="21600" stAng="-5400000" swAng="297621"/>
                  <a:lnTo>
                    <a:pt x="10800" y="457"/>
                  </a:lnTo>
                  <a:arcTo wR="8965" hR="21600" stAng="-5697621" swAng="-510237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Curved Right Arrow 15"/>
            <p:cNvSpPr/>
            <p:nvPr/>
          </p:nvSpPr>
          <p:spPr>
            <a:xfrm>
              <a:off x="1523880" y="3809880"/>
              <a:ext cx="457200" cy="5331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90360 h 533160"/>
                <a:gd name="textAreaBottom" fmla="*/ 385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29" stAng="-5400000" swAng="-5400000"/>
                  <a:lnTo>
                    <a:pt x="0" y="11958"/>
                  </a:lnTo>
                  <a:arcTo wR="21600" hR="7329" stAng="10800000" swAng="-3163700"/>
                  <a:lnTo>
                    <a:pt x="16200" y="21367"/>
                  </a:lnTo>
                  <a:lnTo>
                    <a:pt x="21600" y="16972"/>
                  </a:lnTo>
                  <a:lnTo>
                    <a:pt x="16200" y="12110"/>
                  </a:lnTo>
                  <a:lnTo>
                    <a:pt x="16200" y="14424"/>
                  </a:lnTo>
                  <a:arcTo wR="21600" hR="7329" stAng="7636300" swAng="2777103"/>
                  <a:lnTo>
                    <a:pt x="1106" y="9643"/>
                  </a:lnTo>
                  <a:arcTo wR="21600" hR="7329" stAng="-10413403" swAng="5013403"/>
                  <a:close/>
                </a:path>
                <a:path fill="darkenLess" w="21600" h="21600">
                  <a:moveTo>
                    <a:pt x="21600" y="0"/>
                  </a:moveTo>
                  <a:arcTo wR="21600" hR="7329" stAng="-5400000" swAng="-5400000"/>
                  <a:lnTo>
                    <a:pt x="0" y="7329"/>
                  </a:lnTo>
                  <a:arcTo wR="21600" hR="7329" stAng="10800000" swAng="-386597"/>
                  <a:lnTo>
                    <a:pt x="1106" y="9643"/>
                  </a:lnTo>
                  <a:arcTo wR="21600" hR="7329" stAng="-10413403" swAng="50134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Curved Up Arrow 16"/>
            <p:cNvSpPr/>
            <p:nvPr/>
          </p:nvSpPr>
          <p:spPr>
            <a:xfrm rot="16200000">
              <a:off x="2659680" y="3816720"/>
              <a:ext cx="533160" cy="366480"/>
            </a:xfrm>
            <a:custGeom>
              <a:avLst/>
              <a:gdLst>
                <a:gd name="textAreaLeft" fmla="*/ 98640 w 533160"/>
                <a:gd name="textAreaRight" fmla="*/ 388440 w 533160"/>
                <a:gd name="textAreaTop" fmla="*/ 48960 h 366480"/>
                <a:gd name="textAreaBottom" fmla="*/ 31752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-3310214"/>
                  <a:lnTo>
                    <a:pt x="21345" y="5400"/>
                  </a:lnTo>
                  <a:lnTo>
                    <a:pt x="17888" y="0"/>
                  </a:lnTo>
                  <a:lnTo>
                    <a:pt x="13920" y="5400"/>
                  </a:lnTo>
                  <a:lnTo>
                    <a:pt x="15776" y="5400"/>
                  </a:lnTo>
                  <a:arcTo wR="8016" hR="21600" stAng="2089786" swAng="3007270"/>
                  <a:lnTo>
                    <a:pt x="9872" y="21013"/>
                  </a:lnTo>
                  <a:arcTo wR="8016" hR="21600" stAng="5702944" swAng="5097056"/>
                  <a:close/>
                </a:path>
                <a:path fill="darkenLess"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302944"/>
                  <a:lnTo>
                    <a:pt x="9872" y="21013"/>
                  </a:lnTo>
                  <a:arcTo wR="8016" hR="21600" stAng="5702944" swAng="509705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Curved Right Arrow 17"/>
            <p:cNvSpPr/>
            <p:nvPr/>
          </p:nvSpPr>
          <p:spPr>
            <a:xfrm rot="4648800">
              <a:off x="1741680" y="4014720"/>
              <a:ext cx="250560" cy="959040"/>
            </a:xfrm>
            <a:custGeom>
              <a:avLst/>
              <a:gdLst>
                <a:gd name="textAreaLeft" fmla="*/ 33480 w 250560"/>
                <a:gd name="textAreaRight" fmla="*/ 217080 w 250560"/>
                <a:gd name="textAreaTop" fmla="*/ 216000 h 959040"/>
                <a:gd name="textAreaBottom" fmla="*/ 71172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741" stAng="-5400000" swAng="-5400000"/>
                  <a:lnTo>
                    <a:pt x="0" y="11154"/>
                  </a:lnTo>
                  <a:arcTo wR="21600" hR="9741" stAng="10800000" swAng="-3612356"/>
                  <a:lnTo>
                    <a:pt x="16200" y="21291"/>
                  </a:lnTo>
                  <a:lnTo>
                    <a:pt x="21600" y="20188"/>
                  </a:lnTo>
                  <a:lnTo>
                    <a:pt x="16200" y="18466"/>
                  </a:lnTo>
                  <a:lnTo>
                    <a:pt x="16200" y="19172"/>
                  </a:lnTo>
                  <a:arcTo wR="21600" hR="9741" stAng="7187644" swAng="3499657"/>
                  <a:lnTo>
                    <a:pt x="57" y="10447"/>
                  </a:lnTo>
                  <a:arcTo wR="21600" hR="9741" stAng="-10687300" swAng="5287300"/>
                  <a:close/>
                </a:path>
                <a:path fill="darkenLess" w="21600" h="21600">
                  <a:moveTo>
                    <a:pt x="21600" y="0"/>
                  </a:moveTo>
                  <a:arcTo wR="21600" hR="9741" stAng="-5400000" swAng="-5400000"/>
                  <a:lnTo>
                    <a:pt x="0" y="9741"/>
                  </a:lnTo>
                  <a:arcTo wR="21600" hR="9741" stAng="10800000" swAng="-112700"/>
                  <a:lnTo>
                    <a:pt x="57" y="10447"/>
                  </a:lnTo>
                  <a:arcTo wR="21600" hR="9741" stAng="-10687300" swAng="5287300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Circular Arrow 20"/>
            <p:cNvSpPr/>
            <p:nvPr/>
          </p:nvSpPr>
          <p:spPr>
            <a:xfrm rot="16459800">
              <a:off x="1577520" y="2724120"/>
              <a:ext cx="457200" cy="5331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Circular Arrow 21"/>
            <p:cNvSpPr/>
            <p:nvPr/>
          </p:nvSpPr>
          <p:spPr>
            <a:xfrm flipV="1" rot="16039800">
              <a:off x="2499840" y="2704680"/>
              <a:ext cx="460080" cy="5619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3429000" y="6095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748240" cy="3990960"/>
          </a:xfrm>
          <a:prstGeom prst="rect">
            <a:avLst/>
          </a:prstGeom>
          <a:ln w="0">
            <a:noFill/>
          </a:ln>
        </p:spPr>
      </p:pic>
      <p:sp>
        <p:nvSpPr>
          <p:cNvPr id="290" name="Right Arrow 16"/>
          <p:cNvSpPr/>
          <p:nvPr/>
        </p:nvSpPr>
        <p:spPr>
          <a:xfrm>
            <a:off x="2438280" y="3200400"/>
            <a:ext cx="1447920" cy="380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ight Arrow 17"/>
          <p:cNvSpPr/>
          <p:nvPr/>
        </p:nvSpPr>
        <p:spPr>
          <a:xfrm>
            <a:off x="2438280" y="3962520"/>
            <a:ext cx="1447920" cy="380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ight Arrow 18"/>
          <p:cNvSpPr/>
          <p:nvPr/>
        </p:nvSpPr>
        <p:spPr>
          <a:xfrm>
            <a:off x="2438280" y="4876920"/>
            <a:ext cx="1447920" cy="380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33520" y="2895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hear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533520" y="3657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Inducing 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1"/>
          <p:cNvSpPr/>
          <p:nvPr/>
        </p:nvSpPr>
        <p:spPr>
          <a:xfrm>
            <a:off x="533520" y="4572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nding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22"/>
          <p:cNvSpPr/>
          <p:nvPr/>
        </p:nvSpPr>
        <p:spPr>
          <a:xfrm rot="10800000">
            <a:off x="4876560" y="51055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6019920" y="4724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er Solution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ight Arrow 24"/>
          <p:cNvSpPr/>
          <p:nvPr/>
        </p:nvSpPr>
        <p:spPr>
          <a:xfrm rot="10800000">
            <a:off x="5105160" y="19051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6019920" y="22860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upled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Sealed B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0"/>
          <p:cNvSpPr/>
          <p:nvPr/>
        </p:nvSpPr>
        <p:spPr>
          <a:xfrm>
            <a:off x="838080" y="5943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M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4572000" y="167652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 is only 2 Z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mall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ck mixing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through-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2"/>
          <p:cNvSpPr/>
          <p:nvPr/>
        </p:nvSpPr>
        <p:spPr>
          <a:xfrm>
            <a:off x="4572000" y="32004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Vane impeller is not enough mixing energy or shear for many 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PolyBlend M-Lo Series no background"/>
          <p:cNvPicPr/>
          <p:nvPr/>
        </p:nvPicPr>
        <p:blipFill>
          <a:blip r:embed="rId1"/>
          <a:srcRect l="16779" t="4288" r="2506" b="7765"/>
          <a:stretch/>
        </p:blipFill>
        <p:spPr>
          <a:xfrm>
            <a:off x="838080" y="2362320"/>
            <a:ext cx="3200400" cy="29667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3"/>
          <p:cNvSpPr/>
          <p:nvPr/>
        </p:nvSpPr>
        <p:spPr>
          <a:xfrm>
            <a:off x="4572000" y="45720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wall mount or table 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0"/>
          <p:cNvSpPr/>
          <p:nvPr/>
        </p:nvSpPr>
        <p:spPr>
          <a:xfrm>
            <a:off x="685800" y="5410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blend – M Series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572000" y="18288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 is only 2 Z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mall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ck mixing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through-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2"/>
          <p:cNvSpPr/>
          <p:nvPr/>
        </p:nvSpPr>
        <p:spPr>
          <a:xfrm>
            <a:off x="4572000" y="335268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Vane impeller is not enough mixing energy or shear for many 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M Series mixer illu"/>
          <p:cNvPicPr/>
          <p:nvPr/>
        </p:nvPicPr>
        <p:blipFill>
          <a:blip r:embed="rId1"/>
          <a:srcRect l="15335" t="0" r="21112" b="0"/>
          <a:stretch/>
        </p:blipFill>
        <p:spPr>
          <a:xfrm>
            <a:off x="609480" y="1828800"/>
            <a:ext cx="3657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1295280" y="5715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3657600" y="16002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aining Market share from Str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209680" cy="39909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2"/>
          <p:cNvSpPr/>
          <p:nvPr/>
        </p:nvSpPr>
        <p:spPr>
          <a:xfrm>
            <a:off x="4191120" y="25146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owned and manufactured under the Neptune roof – along with Komax, Semblex, and Jet W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2"/>
          <p:cNvSpPr/>
          <p:nvPr/>
        </p:nvSpPr>
        <p:spPr>
          <a:xfrm>
            <a:off x="4191120" y="41148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reps don’t understand polymer activation technology, but have made inroads bidding Stranco specs over th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polymer feed market 30-35 million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nco had 10-1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blend 6-7 million (Grow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maller players 15-2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-400 polymer projects bidding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5-1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,500 wastewater treatment plants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6,000 drinking water systems in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1295280" y="57150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4572000" y="16002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and pressure fluctuations have a direct effect on the energy available for polymer ac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4572000" y="28954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er pumps are essential in most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209680" cy="39909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12"/>
          <p:cNvSpPr/>
          <p:nvPr/>
        </p:nvSpPr>
        <p:spPr>
          <a:xfrm>
            <a:off x="4572000" y="3886200"/>
            <a:ext cx="403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concentric chamber to produce a centrifuge effect to try and separate undispersed agglomerates  back into the incoming mixing water….it’s too late to correct at that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ing Against The Compet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1295280" y="5638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4191120" y="213372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primarily in the municipal market sold on price alone, usually walk away in cases of performance t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209680" cy="39736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2"/>
          <p:cNvSpPr/>
          <p:nvPr/>
        </p:nvSpPr>
        <p:spPr>
          <a:xfrm>
            <a:off x="4114800" y="41148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effort to develop a very strong industrial rep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S-series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762120" y="1541520"/>
            <a:ext cx="80010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suppli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120 VAC. 60 Hz, 1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max 100 w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ntro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Voltage free contact + 4-20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of mixing cha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1.9 gall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wat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3/4" FN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polymer solu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1/2" tu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er dosing pump typ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Peristaltic (Tube) 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&lt; 70dB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 Backpressure, polymer solu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p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running temper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0 to100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(empty chamber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iameter of the pump tu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S-series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05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Model Number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Numbers Desig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1"/>
          <p:cNvSpPr/>
          <p:nvPr/>
        </p:nvSpPr>
        <p:spPr>
          <a:xfrm>
            <a:off x="533520" y="2438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x        120              0.7               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380880" y="40384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Di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5"/>
          <p:cNvSpPr/>
          <p:nvPr/>
        </p:nvSpPr>
        <p:spPr>
          <a:xfrm>
            <a:off x="2590920" y="4038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H – Neat Poly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6"/>
          <p:cNvSpPr/>
          <p:nvPr/>
        </p:nvSpPr>
        <p:spPr>
          <a:xfrm>
            <a:off x="4952880" y="403848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– Tubing/Peristal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  -  Diaphra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  -  Gear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  -   Progressive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ight Arrow 17"/>
          <p:cNvSpPr/>
          <p:nvPr/>
        </p:nvSpPr>
        <p:spPr>
          <a:xfrm rot="16200000">
            <a:off x="1658160" y="3142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Arrow 18"/>
          <p:cNvSpPr/>
          <p:nvPr/>
        </p:nvSpPr>
        <p:spPr>
          <a:xfrm rot="16200000">
            <a:off x="4553640" y="3142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Arrow 19"/>
          <p:cNvSpPr/>
          <p:nvPr/>
        </p:nvSpPr>
        <p:spPr>
          <a:xfrm rot="16200000">
            <a:off x="3029760" y="3142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Model Number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685800" y="1676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Numbers Designations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th 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609480" y="3124080"/>
            <a:ext cx="8001000" cy="3523680"/>
            <a:chOff x="609480" y="3124080"/>
            <a:chExt cx="8001000" cy="3523680"/>
          </a:xfrm>
        </p:grpSpPr>
        <p:sp>
          <p:nvSpPr>
            <p:cNvPr id="351" name="TextBox 11"/>
            <p:cNvSpPr/>
            <p:nvPr/>
          </p:nvSpPr>
          <p:spPr>
            <a:xfrm>
              <a:off x="609480" y="31240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Mix        120      X2        0.7                 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12"/>
            <p:cNvSpPr/>
            <p:nvPr/>
          </p:nvSpPr>
          <p:spPr>
            <a:xfrm>
              <a:off x="609480" y="472392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mary Dilu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15"/>
            <p:cNvSpPr/>
            <p:nvPr/>
          </p:nvSpPr>
          <p:spPr>
            <a:xfrm>
              <a:off x="3047760" y="4800240"/>
              <a:ext cx="1981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mp Capa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PH – Neat Poly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6"/>
            <p:cNvSpPr/>
            <p:nvPr/>
          </p:nvSpPr>
          <p:spPr>
            <a:xfrm>
              <a:off x="5410080" y="4724280"/>
              <a:ext cx="32004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mp 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   – Tubing/Peristal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   -  Diaphrag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   -  Gear Pu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   -   Progressive Ca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ight Arrow 17"/>
            <p:cNvSpPr/>
            <p:nvPr/>
          </p:nvSpPr>
          <p:spPr>
            <a:xfrm rot="16200000">
              <a:off x="1734120" y="3827880"/>
              <a:ext cx="977760" cy="48420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ight Arrow 18"/>
            <p:cNvSpPr/>
            <p:nvPr/>
          </p:nvSpPr>
          <p:spPr>
            <a:xfrm rot="16200000">
              <a:off x="5010840" y="3827880"/>
              <a:ext cx="977760" cy="48420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ight Arrow 19"/>
            <p:cNvSpPr/>
            <p:nvPr/>
          </p:nvSpPr>
          <p:spPr>
            <a:xfrm rot="16200000">
              <a:off x="3486600" y="3827880"/>
              <a:ext cx="977760" cy="48420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ight Arrow 13"/>
          <p:cNvSpPr/>
          <p:nvPr/>
        </p:nvSpPr>
        <p:spPr>
          <a:xfrm rot="5400000">
            <a:off x="2572200" y="2380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3505320" y="213372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2 - Means unit has a secondary rotometer (Same size as primary) and static mixer for post di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S-series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-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914400" y="22860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Unit controls will be a local speed control for the pump and a the ability to accept a 4-20ma signal to vary pump spe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914400" y="34290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er solution output strength varies with the speed – all rotometer adjustments are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914400" y="43434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ntrol is the same as the “A” controls on the Polyblend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Basic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685800" y="1676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Offering -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62120" y="2286000"/>
          <a:ext cx="7543800" cy="3581280"/>
        </p:xfrm>
        <a:graphic>
          <a:graphicData uri="http://schemas.openxmlformats.org/drawingml/2006/table">
            <a:tbl>
              <a:tblPr/>
              <a:tblGrid>
                <a:gridCol w="1447560"/>
                <a:gridCol w="2021040"/>
                <a:gridCol w="1994040"/>
                <a:gridCol w="2081160"/>
              </a:tblGrid>
              <a:tr h="272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y Rotometer (GP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ary Rotometer (GP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istaltic Pump (GP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30 - 0.3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60 - 0.3-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60X2 - 0.3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 - 0.6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95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X2 - 0.6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120X2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 - 2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95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X2 - 1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x  200X2 - 2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x The Fu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685800" y="1676520"/>
            <a:ext cx="5486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Contro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integration of ProMinent P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r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al Fe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Line of  Access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ing Sizing  and Selec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e Papers &amp; Case Hi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-5181840" y="2743200"/>
            <a:ext cx="70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ProMix Polymer Fe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fficiency mixing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istinct mixing zones – consistent tapered mixing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es on pressure only for motive force to deliver mechanically activated poly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design for easy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e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phragm models offer the unique features of ProMinent p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injection check valve with eas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online or as make-dow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delivery of activated polyme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Polymer_unit.jpg"/>
          <p:cNvPicPr/>
          <p:nvPr/>
        </p:nvPicPr>
        <p:blipFill>
          <a:blip r:embed="rId1"/>
          <a:stretch/>
        </p:blipFill>
        <p:spPr>
          <a:xfrm>
            <a:off x="5410080" y="1523880"/>
            <a:ext cx="3098880" cy="46483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685800" y="16002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Sell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ens/Stranco/W&amp;T Poly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t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b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Wet (Dyna-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c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ynabl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-5181840" y="2743200"/>
            <a:ext cx="70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ProMix Polymer Fe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Head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Polymer_unit.jpg"/>
          <p:cNvPicPr/>
          <p:nvPr/>
        </p:nvPicPr>
        <p:blipFill>
          <a:blip r:embed="rId1"/>
          <a:stretch/>
        </p:blipFill>
        <p:spPr>
          <a:xfrm>
            <a:off x="4800600" y="15238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bl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lea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of Ke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pping on Submittals, Deli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applicatio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Dis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er 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stronger than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PolyBlend M-Lo Series liquid polymer feed system"/>
          <p:cNvPicPr/>
          <p:nvPr/>
        </p:nvPicPr>
        <p:blipFill>
          <a:blip r:embed="rId1"/>
          <a:stretch/>
        </p:blipFill>
        <p:spPr>
          <a:xfrm>
            <a:off x="6400800" y="4114800"/>
            <a:ext cx="2189160" cy="2057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PolyBlend PB Series - most popular liquid polymer feeder ever offered"/>
          <p:cNvPicPr/>
          <p:nvPr/>
        </p:nvPicPr>
        <p:blipFill>
          <a:blip r:embed="rId2"/>
          <a:stretch/>
        </p:blipFill>
        <p:spPr>
          <a:xfrm>
            <a:off x="7086600" y="1600200"/>
            <a:ext cx="1600200" cy="2255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ryrig"/>
          <p:cNvPicPr/>
          <p:nvPr/>
        </p:nvPicPr>
        <p:blipFill>
          <a:blip r:embed="rId3"/>
          <a:stretch/>
        </p:blipFill>
        <p:spPr>
          <a:xfrm>
            <a:off x="457200" y="251460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4"/>
          <a:stretch/>
        </p:blipFill>
        <p:spPr>
          <a:xfrm>
            <a:off x="4343400" y="190512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is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Polymer &amp; Dry f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dry fe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reputation in engineer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er 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stronger than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is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53964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Polymer &amp; Dry f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dry fe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reputation in engineer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er r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ipal stronger than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710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is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Model 105 Volumetric Fee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2666880" cy="228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crison.com/im/th_m5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371600"/>
            <a:ext cx="2438280" cy="3475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www.acrison.com/im/th_m53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886200"/>
            <a:ext cx="25146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05:16Z</dcterms:created>
  <dc:creator>Ed Thomas</dc:creator>
  <dc:description/>
  <dc:language>en-US</dc:language>
  <cp:lastModifiedBy>Ken Gibson</cp:lastModifiedBy>
  <dcterms:modified xsi:type="dcterms:W3CDTF">2009-07-23T18:31:28Z</dcterms:modified>
  <cp:revision>138</cp:revision>
  <dc:subject>Understanding Polymer &amp; Activation</dc:subject>
  <dc:title>ProMinent ProMix Polymer System</dc:title>
</cp:coreProperties>
</file>