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1797-571F-43B2-B706-CCB9022CE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6658-35E9-4B47-AA28-33B76E7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6640-A3B7-4283-A501-E29AF32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8E41-5EC3-4C78-BF37-C47EED34C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5775-9DB2-490B-B9AB-CBAC8D15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2A07-C3C9-4161-93BB-5A0E8F5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6AD2-8267-4042-B4EC-80719E9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0D3B-5F5F-4F42-9B4D-02CAC252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D311-9857-4524-B77D-13B347E2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CC34-229B-4D9B-AA52-58CCE36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8007-F59F-4651-9801-153F3A0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9BE0-0498-4460-85CC-5C8E5690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5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08.05.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8CD6-D6B3-41D7-B766-22D6BE0C839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5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12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58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3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3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3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4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4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4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6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3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Minent Ammonia Analy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3280" y="1484280"/>
            <a:ext cx="360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 to 20 ppm NH</a:t>
            </a:r>
            <a:r>
              <a:rPr b="1" lang="de-DE" sz="2000" spc="-1" strike="noStrike" baseline="-4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entiometric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s-permeabl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d as system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herne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abl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oling towers/ch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trific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8040" y="1557360"/>
            <a:ext cx="3948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nd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less on-line monitoring of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oint calibration of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DA interface through 4-20 mA outputs or optional Mod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driven inputs for measurements and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 capability on ammonia excu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ging and Trackster technolog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704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number 7746330 for complete ammoni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sensor part number 1035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590920"/>
          <a:ext cx="77724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mmonia (NH3)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19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1:48:39Z</dcterms:created>
  <dc:creator>winkler</dc:creator>
  <dc:description/>
  <dc:language>en-US</dc:language>
  <cp:lastModifiedBy>None None</cp:lastModifiedBy>
  <dcterms:modified xsi:type="dcterms:W3CDTF">2009-07-31T17:42:13Z</dcterms:modified>
  <cp:revision>97</cp:revision>
  <dc:subject/>
  <dc:title>PowerPoint-Präsentation</dc:title>
</cp:coreProperties>
</file>