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ftr" idx="4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 type="sldNum" idx="5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B0E9F-8555-4B3E-98CE-376CC25A8E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F2C71-D499-405B-BB07-9262A73F13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7"/>
          <p:cNvSpPr/>
          <p:nvPr/>
        </p:nvSpPr>
        <p:spPr>
          <a:xfrm>
            <a:off x="3886200" y="8829720"/>
            <a:ext cx="29718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395D9-EB2E-4314-8EBD-AAA9232BE9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CD009-E8C0-453B-9F39-7947E20E69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7"/>
          <p:cNvSpPr/>
          <p:nvPr/>
        </p:nvSpPr>
        <p:spPr>
          <a:xfrm>
            <a:off x="3886200" y="8829720"/>
            <a:ext cx="29718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7A9AA-A783-415F-807A-F5B78DF2EB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27AE2-53F3-4A89-B68F-B77DC25FE8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3886200" y="8829720"/>
            <a:ext cx="29718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4844A-61B1-47D4-9D40-9FB4F81F53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122E6-D5D9-4E1B-8A1B-76761B0612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7"/>
          <p:cNvSpPr/>
          <p:nvPr/>
        </p:nvSpPr>
        <p:spPr>
          <a:xfrm>
            <a:off x="3886200" y="8829720"/>
            <a:ext cx="29718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0B129-7EC2-4C1F-B603-873ADF8776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AF0C4-A64F-4D06-875F-6D2C0078AF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3886200" y="8829720"/>
            <a:ext cx="29718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F134A-EE22-4624-B5D4-F9388FB46A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6547AE-CAA5-49BC-A1BF-DF2D20B1C31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770436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9280" y="4042800"/>
            <a:ext cx="770436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24F31F-BE8A-4640-82F8-7BA23DC12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487040" y="148428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9280" y="404280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487040" y="404280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1A243C-8EA2-46B7-9470-B369E1A01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24804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144240" y="1484280"/>
            <a:ext cx="24804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748840" y="1484280"/>
            <a:ext cx="24804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9280" y="4042800"/>
            <a:ext cx="24804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144240" y="4042800"/>
            <a:ext cx="24804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748840" y="4042800"/>
            <a:ext cx="24804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60A98D-A53D-4F83-882B-9A6EF0C5EC2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39280" y="1484280"/>
            <a:ext cx="770436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770436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37594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487040" y="1484280"/>
            <a:ext cx="37594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39280" y="274680"/>
            <a:ext cx="770436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487040" y="1484280"/>
            <a:ext cx="37594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39280" y="404280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9280" y="1484280"/>
            <a:ext cx="770436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60419E-5DC2-49A1-92F6-91BBEA2D0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37594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487040" y="148428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487040" y="404280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487040" y="148428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39280" y="4042800"/>
            <a:ext cx="770436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770436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39280" y="4042800"/>
            <a:ext cx="770436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487040" y="148428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9280" y="404280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487040" y="404280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24804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144240" y="1484280"/>
            <a:ext cx="24804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5748840" y="1484280"/>
            <a:ext cx="24804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39280" y="4042800"/>
            <a:ext cx="24804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144240" y="4042800"/>
            <a:ext cx="24804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5748840" y="4042800"/>
            <a:ext cx="24804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770436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A680B5-241D-442C-AC35-A61BED94D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37594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487040" y="1484280"/>
            <a:ext cx="37594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09536B-91DB-4EE7-ADA7-F4E8CEE41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FF55A0-D6B7-4F3D-AC80-8771CF22C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9280" y="274680"/>
            <a:ext cx="770436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DC40FA-C672-44ED-98DD-C78E0394C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87040" y="1484280"/>
            <a:ext cx="37594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9280" y="404280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415EC6-CAE7-41EF-801C-DCEA3B181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37594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487040" y="148428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487040" y="404280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C160A5-CDA9-4369-8BEA-0608C278E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87040" y="148428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9280" y="4042800"/>
            <a:ext cx="770436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E841B9-BDF4-4800-894D-B0DDEDDA6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verlauf"/>
          <p:cNvPicPr/>
          <p:nvPr/>
        </p:nvPicPr>
        <p:blipFill>
          <a:blip r:embed="rId2"/>
          <a:stretch/>
        </p:blipFill>
        <p:spPr>
          <a:xfrm>
            <a:off x="0" y="5170320"/>
            <a:ext cx="9144000" cy="17146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9280" y="1484280"/>
            <a:ext cx="770436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550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0000">
              <a:spcBef>
                <a:spcPts val="550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65320">
              <a:spcBef>
                <a:spcPts val="550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77840" indent="-271440">
              <a:spcBef>
                <a:spcPts val="550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344600" indent="-264960">
              <a:spcBef>
                <a:spcPts val="550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344600" indent="-26496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344600" indent="-26496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39640" y="6649920"/>
            <a:ext cx="2051280" cy="2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649920"/>
            <a:ext cx="1690920" cy="2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CF716-DAD5-4A2B-B9D9-8373D4743B94}" type="slidenum">
              <a:rPr b="0" lang="de-DE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633240" y="1052640"/>
            <a:ext cx="7610760" cy="222120"/>
          </a:xfrm>
          <a:prstGeom prst="pie">
            <a:avLst/>
          </a:prstGeom>
          <a:solidFill>
            <a:srgbClr val="0d2a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582040" y="125280"/>
            <a:ext cx="204840" cy="1149480"/>
            <a:chOff x="8582040" y="125280"/>
            <a:chExt cx="204840" cy="1149480"/>
          </a:xfrm>
        </p:grpSpPr>
        <p:sp>
          <p:nvSpPr>
            <p:cNvPr id="7" name="Freeform 9"/>
            <p:cNvSpPr/>
            <p:nvPr/>
          </p:nvSpPr>
          <p:spPr>
            <a:xfrm>
              <a:off x="8642520" y="1044720"/>
              <a:ext cx="141120" cy="85680"/>
            </a:xfrm>
            <a:prstGeom prst="pie">
              <a:avLst/>
            </a:prstGeom>
            <a:solidFill>
              <a:srgbClr val="0d2a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8582040" y="125280"/>
              <a:ext cx="204840" cy="787680"/>
            </a:xfrm>
            <a:prstGeom prst="pie">
              <a:avLst/>
            </a:prstGeom>
            <a:solidFill>
              <a:srgbClr val="0d2a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8586720" y="1135080"/>
              <a:ext cx="196920" cy="139680"/>
            </a:xfrm>
            <a:prstGeom prst="pie">
              <a:avLst/>
            </a:prstGeom>
            <a:solidFill>
              <a:srgbClr val="0d2a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8642520" y="922320"/>
              <a:ext cx="144360" cy="123840"/>
            </a:xfrm>
            <a:prstGeom prst="pie">
              <a:avLst/>
            </a:prstGeom>
            <a:solidFill>
              <a:srgbClr val="ec7c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Group 13"/>
          <p:cNvGrpSpPr/>
          <p:nvPr/>
        </p:nvGrpSpPr>
        <p:grpSpPr>
          <a:xfrm>
            <a:off x="5937120" y="1100160"/>
            <a:ext cx="2233440" cy="122040"/>
            <a:chOff x="5937120" y="1100160"/>
            <a:chExt cx="2233440" cy="122040"/>
          </a:xfrm>
        </p:grpSpPr>
        <p:sp>
          <p:nvSpPr>
            <p:cNvPr id="12" name="Rectangle 14"/>
            <p:cNvSpPr/>
            <p:nvPr/>
          </p:nvSpPr>
          <p:spPr>
            <a:xfrm>
              <a:off x="5937120" y="1100160"/>
              <a:ext cx="5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5999400" y="1100160"/>
              <a:ext cx="60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6059520" y="1100160"/>
              <a:ext cx="64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612324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183360" y="1100160"/>
              <a:ext cx="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225120" y="1100160"/>
              <a:ext cx="45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6267240" y="1100160"/>
              <a:ext cx="51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6323760" y="110016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>
              <a:off x="6349320" y="1100160"/>
              <a:ext cx="31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>
              <a:off x="6376680" y="1100160"/>
              <a:ext cx="67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>
              <a:off x="6444360" y="110016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>
              <a:off x="6471360" y="1100160"/>
              <a:ext cx="66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>
              <a:off x="6543360" y="1100160"/>
              <a:ext cx="67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>
              <a:off x="660888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>
              <a:off x="6667920" y="1100160"/>
              <a:ext cx="101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6772680" y="110016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-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>
              <a:off x="6813360" y="11001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F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>
              <a:off x="687420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93612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996240" y="1100160"/>
              <a:ext cx="64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>
              <a:off x="7065360" y="110016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Rectangle 35"/>
            <p:cNvSpPr/>
            <p:nvPr/>
          </p:nvSpPr>
          <p:spPr>
            <a:xfrm>
              <a:off x="709164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Rectangle 36"/>
            <p:cNvSpPr/>
            <p:nvPr/>
          </p:nvSpPr>
          <p:spPr>
            <a:xfrm>
              <a:off x="7151400" y="1100160"/>
              <a:ext cx="67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Rectangle 37"/>
            <p:cNvSpPr/>
            <p:nvPr/>
          </p:nvSpPr>
          <p:spPr>
            <a:xfrm>
              <a:off x="7216920" y="1100160"/>
              <a:ext cx="64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7284240" y="110016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7319520" y="1100160"/>
              <a:ext cx="99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W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Rectangle 40"/>
            <p:cNvSpPr/>
            <p:nvPr/>
          </p:nvSpPr>
          <p:spPr>
            <a:xfrm>
              <a:off x="741852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Rectangle 41"/>
            <p:cNvSpPr/>
            <p:nvPr/>
          </p:nvSpPr>
          <p:spPr>
            <a:xfrm>
              <a:off x="7476120" y="1100160"/>
              <a:ext cx="45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Rectangle 42"/>
            <p:cNvSpPr/>
            <p:nvPr/>
          </p:nvSpPr>
          <p:spPr>
            <a:xfrm>
              <a:off x="751716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Rectangle 43"/>
            <p:cNvSpPr/>
            <p:nvPr/>
          </p:nvSpPr>
          <p:spPr>
            <a:xfrm>
              <a:off x="7576920" y="1100160"/>
              <a:ext cx="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Rectangle 44"/>
            <p:cNvSpPr/>
            <p:nvPr/>
          </p:nvSpPr>
          <p:spPr>
            <a:xfrm>
              <a:off x="7622280" y="110016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Rectangle 45"/>
            <p:cNvSpPr/>
            <p:nvPr/>
          </p:nvSpPr>
          <p:spPr>
            <a:xfrm>
              <a:off x="7652520" y="1100160"/>
              <a:ext cx="60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Rectangle 46"/>
            <p:cNvSpPr/>
            <p:nvPr/>
          </p:nvSpPr>
          <p:spPr>
            <a:xfrm>
              <a:off x="7704000" y="1100160"/>
              <a:ext cx="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47"/>
            <p:cNvSpPr/>
            <p:nvPr/>
          </p:nvSpPr>
          <p:spPr>
            <a:xfrm>
              <a:off x="774720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Rectangle 48"/>
            <p:cNvSpPr/>
            <p:nvPr/>
          </p:nvSpPr>
          <p:spPr>
            <a:xfrm>
              <a:off x="780768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9"/>
            <p:cNvSpPr/>
            <p:nvPr/>
          </p:nvSpPr>
          <p:spPr>
            <a:xfrm>
              <a:off x="7866720" y="1100160"/>
              <a:ext cx="45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7904520" y="1100160"/>
              <a:ext cx="101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800424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52"/>
            <p:cNvSpPr/>
            <p:nvPr/>
          </p:nvSpPr>
          <p:spPr>
            <a:xfrm>
              <a:off x="8062560" y="1100160"/>
              <a:ext cx="67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53"/>
            <p:cNvSpPr/>
            <p:nvPr/>
          </p:nvSpPr>
          <p:spPr>
            <a:xfrm>
              <a:off x="8125560" y="1100160"/>
              <a:ext cx="45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Line 54"/>
          <p:cNvSpPr/>
          <p:nvPr/>
        </p:nvSpPr>
        <p:spPr>
          <a:xfrm>
            <a:off x="0" y="1268280"/>
            <a:ext cx="8244000" cy="0"/>
          </a:xfrm>
          <a:prstGeom prst="line">
            <a:avLst/>
          </a:prstGeom>
          <a:ln w="19080">
            <a:solidFill>
              <a:srgbClr val="ec7c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55"/>
          <p:cNvSpPr/>
          <p:nvPr/>
        </p:nvSpPr>
        <p:spPr>
          <a:xfrm>
            <a:off x="0" y="6669000"/>
            <a:ext cx="8244000" cy="0"/>
          </a:xfrm>
          <a:prstGeom prst="line">
            <a:avLst/>
          </a:prstGeom>
          <a:ln w="19080">
            <a:solidFill>
              <a:srgbClr val="ec7c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verlauf"/>
          <p:cNvPicPr/>
          <p:nvPr/>
        </p:nvPicPr>
        <p:blipFill>
          <a:blip r:embed="rId2"/>
          <a:stretch/>
        </p:blipFill>
        <p:spPr>
          <a:xfrm>
            <a:off x="0" y="5170320"/>
            <a:ext cx="9144000" cy="1714680"/>
          </a:xfrm>
          <a:prstGeom prst="rect">
            <a:avLst/>
          </a:prstGeom>
          <a:ln w="0">
            <a:noFill/>
          </a:ln>
        </p:spPr>
      </p:pic>
      <p:sp>
        <p:nvSpPr>
          <p:cNvPr id="91" name="Freeform 3"/>
          <p:cNvSpPr/>
          <p:nvPr/>
        </p:nvSpPr>
        <p:spPr>
          <a:xfrm>
            <a:off x="633240" y="1052640"/>
            <a:ext cx="7610760" cy="222120"/>
          </a:xfrm>
          <a:prstGeom prst="pie">
            <a:avLst/>
          </a:prstGeom>
          <a:solidFill>
            <a:srgbClr val="0d2a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Group 4"/>
          <p:cNvGrpSpPr/>
          <p:nvPr/>
        </p:nvGrpSpPr>
        <p:grpSpPr>
          <a:xfrm>
            <a:off x="8582040" y="125280"/>
            <a:ext cx="204840" cy="1149480"/>
            <a:chOff x="8582040" y="125280"/>
            <a:chExt cx="204840" cy="1149480"/>
          </a:xfrm>
        </p:grpSpPr>
        <p:sp>
          <p:nvSpPr>
            <p:cNvPr id="93" name="Freeform 5"/>
            <p:cNvSpPr/>
            <p:nvPr/>
          </p:nvSpPr>
          <p:spPr>
            <a:xfrm>
              <a:off x="8642520" y="1044720"/>
              <a:ext cx="141120" cy="85680"/>
            </a:xfrm>
            <a:prstGeom prst="pie">
              <a:avLst/>
            </a:prstGeom>
            <a:solidFill>
              <a:srgbClr val="0d2a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6"/>
            <p:cNvSpPr/>
            <p:nvPr/>
          </p:nvSpPr>
          <p:spPr>
            <a:xfrm>
              <a:off x="8582040" y="125280"/>
              <a:ext cx="204840" cy="787680"/>
            </a:xfrm>
            <a:prstGeom prst="pie">
              <a:avLst/>
            </a:prstGeom>
            <a:solidFill>
              <a:srgbClr val="0d2a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7"/>
            <p:cNvSpPr/>
            <p:nvPr/>
          </p:nvSpPr>
          <p:spPr>
            <a:xfrm>
              <a:off x="8586720" y="1135080"/>
              <a:ext cx="196920" cy="139680"/>
            </a:xfrm>
            <a:prstGeom prst="pie">
              <a:avLst/>
            </a:prstGeom>
            <a:solidFill>
              <a:srgbClr val="0d2a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8"/>
            <p:cNvSpPr/>
            <p:nvPr/>
          </p:nvSpPr>
          <p:spPr>
            <a:xfrm>
              <a:off x="8642520" y="922320"/>
              <a:ext cx="144360" cy="123840"/>
            </a:xfrm>
            <a:prstGeom prst="pie">
              <a:avLst/>
            </a:prstGeom>
            <a:solidFill>
              <a:srgbClr val="ec7c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Line 9"/>
          <p:cNvSpPr/>
          <p:nvPr/>
        </p:nvSpPr>
        <p:spPr>
          <a:xfrm>
            <a:off x="0" y="6669000"/>
            <a:ext cx="8244000" cy="0"/>
          </a:xfrm>
          <a:prstGeom prst="line">
            <a:avLst/>
          </a:prstGeom>
          <a:ln w="19080">
            <a:solidFill>
              <a:srgbClr val="ec7c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Group 11"/>
          <p:cNvGrpSpPr/>
          <p:nvPr/>
        </p:nvGrpSpPr>
        <p:grpSpPr>
          <a:xfrm>
            <a:off x="5937120" y="1100160"/>
            <a:ext cx="2233440" cy="122040"/>
            <a:chOff x="5937120" y="1100160"/>
            <a:chExt cx="2233440" cy="122040"/>
          </a:xfrm>
        </p:grpSpPr>
        <p:sp>
          <p:nvSpPr>
            <p:cNvPr id="99" name="Rectangle 12"/>
            <p:cNvSpPr/>
            <p:nvPr/>
          </p:nvSpPr>
          <p:spPr>
            <a:xfrm>
              <a:off x="5937120" y="1100160"/>
              <a:ext cx="5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13"/>
            <p:cNvSpPr/>
            <p:nvPr/>
          </p:nvSpPr>
          <p:spPr>
            <a:xfrm>
              <a:off x="5999400" y="1100160"/>
              <a:ext cx="60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14"/>
            <p:cNvSpPr/>
            <p:nvPr/>
          </p:nvSpPr>
          <p:spPr>
            <a:xfrm>
              <a:off x="6059520" y="1100160"/>
              <a:ext cx="64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15"/>
            <p:cNvSpPr/>
            <p:nvPr/>
          </p:nvSpPr>
          <p:spPr>
            <a:xfrm>
              <a:off x="612324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16"/>
            <p:cNvSpPr/>
            <p:nvPr/>
          </p:nvSpPr>
          <p:spPr>
            <a:xfrm>
              <a:off x="6183360" y="1100160"/>
              <a:ext cx="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17"/>
            <p:cNvSpPr/>
            <p:nvPr/>
          </p:nvSpPr>
          <p:spPr>
            <a:xfrm>
              <a:off x="6225120" y="1100160"/>
              <a:ext cx="45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18"/>
            <p:cNvSpPr/>
            <p:nvPr/>
          </p:nvSpPr>
          <p:spPr>
            <a:xfrm>
              <a:off x="6267240" y="1100160"/>
              <a:ext cx="51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19"/>
            <p:cNvSpPr/>
            <p:nvPr/>
          </p:nvSpPr>
          <p:spPr>
            <a:xfrm>
              <a:off x="6323760" y="110016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20"/>
            <p:cNvSpPr/>
            <p:nvPr/>
          </p:nvSpPr>
          <p:spPr>
            <a:xfrm>
              <a:off x="6349320" y="1100160"/>
              <a:ext cx="31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21"/>
            <p:cNvSpPr/>
            <p:nvPr/>
          </p:nvSpPr>
          <p:spPr>
            <a:xfrm>
              <a:off x="6376680" y="1100160"/>
              <a:ext cx="67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22"/>
            <p:cNvSpPr/>
            <p:nvPr/>
          </p:nvSpPr>
          <p:spPr>
            <a:xfrm>
              <a:off x="6444360" y="110016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23"/>
            <p:cNvSpPr/>
            <p:nvPr/>
          </p:nvSpPr>
          <p:spPr>
            <a:xfrm>
              <a:off x="6471360" y="1100160"/>
              <a:ext cx="66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24"/>
            <p:cNvSpPr/>
            <p:nvPr/>
          </p:nvSpPr>
          <p:spPr>
            <a:xfrm>
              <a:off x="6543360" y="1100160"/>
              <a:ext cx="67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25"/>
            <p:cNvSpPr/>
            <p:nvPr/>
          </p:nvSpPr>
          <p:spPr>
            <a:xfrm>
              <a:off x="660888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26"/>
            <p:cNvSpPr/>
            <p:nvPr/>
          </p:nvSpPr>
          <p:spPr>
            <a:xfrm>
              <a:off x="6667920" y="1100160"/>
              <a:ext cx="101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27"/>
            <p:cNvSpPr/>
            <p:nvPr/>
          </p:nvSpPr>
          <p:spPr>
            <a:xfrm>
              <a:off x="6772680" y="110016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-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28"/>
            <p:cNvSpPr/>
            <p:nvPr/>
          </p:nvSpPr>
          <p:spPr>
            <a:xfrm>
              <a:off x="6813360" y="11001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F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29"/>
            <p:cNvSpPr/>
            <p:nvPr/>
          </p:nvSpPr>
          <p:spPr>
            <a:xfrm>
              <a:off x="687420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30"/>
            <p:cNvSpPr/>
            <p:nvPr/>
          </p:nvSpPr>
          <p:spPr>
            <a:xfrm>
              <a:off x="693612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31"/>
            <p:cNvSpPr/>
            <p:nvPr/>
          </p:nvSpPr>
          <p:spPr>
            <a:xfrm>
              <a:off x="6996240" y="1100160"/>
              <a:ext cx="64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32"/>
            <p:cNvSpPr/>
            <p:nvPr/>
          </p:nvSpPr>
          <p:spPr>
            <a:xfrm>
              <a:off x="7065360" y="110016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33"/>
            <p:cNvSpPr/>
            <p:nvPr/>
          </p:nvSpPr>
          <p:spPr>
            <a:xfrm>
              <a:off x="709164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34"/>
            <p:cNvSpPr/>
            <p:nvPr/>
          </p:nvSpPr>
          <p:spPr>
            <a:xfrm>
              <a:off x="7151400" y="1100160"/>
              <a:ext cx="67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35"/>
            <p:cNvSpPr/>
            <p:nvPr/>
          </p:nvSpPr>
          <p:spPr>
            <a:xfrm>
              <a:off x="7216920" y="1100160"/>
              <a:ext cx="64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36"/>
            <p:cNvSpPr/>
            <p:nvPr/>
          </p:nvSpPr>
          <p:spPr>
            <a:xfrm>
              <a:off x="7284240" y="110016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37"/>
            <p:cNvSpPr/>
            <p:nvPr/>
          </p:nvSpPr>
          <p:spPr>
            <a:xfrm>
              <a:off x="7319520" y="1100160"/>
              <a:ext cx="99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W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38"/>
            <p:cNvSpPr/>
            <p:nvPr/>
          </p:nvSpPr>
          <p:spPr>
            <a:xfrm>
              <a:off x="741852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39"/>
            <p:cNvSpPr/>
            <p:nvPr/>
          </p:nvSpPr>
          <p:spPr>
            <a:xfrm>
              <a:off x="7476120" y="1100160"/>
              <a:ext cx="45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40"/>
            <p:cNvSpPr/>
            <p:nvPr/>
          </p:nvSpPr>
          <p:spPr>
            <a:xfrm>
              <a:off x="751716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ectangle 41"/>
            <p:cNvSpPr/>
            <p:nvPr/>
          </p:nvSpPr>
          <p:spPr>
            <a:xfrm>
              <a:off x="7576920" y="1100160"/>
              <a:ext cx="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Rectangle 42"/>
            <p:cNvSpPr/>
            <p:nvPr/>
          </p:nvSpPr>
          <p:spPr>
            <a:xfrm>
              <a:off x="7622280" y="110016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Rectangle 43"/>
            <p:cNvSpPr/>
            <p:nvPr/>
          </p:nvSpPr>
          <p:spPr>
            <a:xfrm>
              <a:off x="7652520" y="1100160"/>
              <a:ext cx="60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44"/>
            <p:cNvSpPr/>
            <p:nvPr/>
          </p:nvSpPr>
          <p:spPr>
            <a:xfrm>
              <a:off x="7704000" y="1100160"/>
              <a:ext cx="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45"/>
            <p:cNvSpPr/>
            <p:nvPr/>
          </p:nvSpPr>
          <p:spPr>
            <a:xfrm>
              <a:off x="774720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46"/>
            <p:cNvSpPr/>
            <p:nvPr/>
          </p:nvSpPr>
          <p:spPr>
            <a:xfrm>
              <a:off x="780768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47"/>
            <p:cNvSpPr/>
            <p:nvPr/>
          </p:nvSpPr>
          <p:spPr>
            <a:xfrm>
              <a:off x="7866720" y="1100160"/>
              <a:ext cx="45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48"/>
            <p:cNvSpPr/>
            <p:nvPr/>
          </p:nvSpPr>
          <p:spPr>
            <a:xfrm>
              <a:off x="7904520" y="1100160"/>
              <a:ext cx="101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49"/>
            <p:cNvSpPr/>
            <p:nvPr/>
          </p:nvSpPr>
          <p:spPr>
            <a:xfrm>
              <a:off x="800424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50"/>
            <p:cNvSpPr/>
            <p:nvPr/>
          </p:nvSpPr>
          <p:spPr>
            <a:xfrm>
              <a:off x="8062560" y="1100160"/>
              <a:ext cx="67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51"/>
            <p:cNvSpPr/>
            <p:nvPr/>
          </p:nvSpPr>
          <p:spPr>
            <a:xfrm>
              <a:off x="8125560" y="1100160"/>
              <a:ext cx="45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Line 52"/>
          <p:cNvSpPr/>
          <p:nvPr/>
        </p:nvSpPr>
        <p:spPr>
          <a:xfrm>
            <a:off x="0" y="1268280"/>
            <a:ext cx="8244000" cy="0"/>
          </a:xfrm>
          <a:prstGeom prst="line">
            <a:avLst/>
          </a:prstGeom>
          <a:ln w="19080">
            <a:solidFill>
              <a:srgbClr val="ec7c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53" descr="verlauf"/>
          <p:cNvPicPr/>
          <p:nvPr/>
        </p:nvPicPr>
        <p:blipFill>
          <a:blip r:embed="rId3"/>
          <a:stretch/>
        </p:blipFill>
        <p:spPr>
          <a:xfrm>
            <a:off x="635040" y="1852560"/>
            <a:ext cx="7608960" cy="1432080"/>
          </a:xfrm>
          <a:prstGeom prst="rect">
            <a:avLst/>
          </a:prstGeom>
          <a:ln w="0">
            <a:noFill/>
          </a:ln>
        </p:spPr>
      </p:pic>
      <p:sp>
        <p:nvSpPr>
          <p:cNvPr id="141" name="Freeform 54"/>
          <p:cNvSpPr/>
          <p:nvPr/>
        </p:nvSpPr>
        <p:spPr>
          <a:xfrm>
            <a:off x="633240" y="3206880"/>
            <a:ext cx="7610760" cy="222120"/>
          </a:xfrm>
          <a:prstGeom prst="pie">
            <a:avLst/>
          </a:prstGeom>
          <a:solidFill>
            <a:srgbClr val="0d2a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55"/>
          <p:cNvSpPr/>
          <p:nvPr/>
        </p:nvSpPr>
        <p:spPr>
          <a:xfrm>
            <a:off x="0" y="3213000"/>
            <a:ext cx="8244000" cy="0"/>
          </a:xfrm>
          <a:prstGeom prst="line">
            <a:avLst/>
          </a:prstGeom>
          <a:ln w="19080">
            <a:solidFill>
              <a:srgbClr val="ec7c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539280" y="1484280"/>
            <a:ext cx="770436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550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0000">
              <a:spcBef>
                <a:spcPts val="550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65320">
              <a:spcBef>
                <a:spcPts val="550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77840" indent="-271440">
              <a:spcBef>
                <a:spcPts val="550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344600" indent="-264960">
              <a:spcBef>
                <a:spcPts val="550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344600" indent="-26496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344600" indent="-26496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G Award Winn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77043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5537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5537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5537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spcBef>
                <a:spcPts val="2001"/>
              </a:spcBef>
              <a:buNone/>
              <a:tabLst>
                <a:tab algn="l" pos="0"/>
                <a:tab algn="l" pos="5537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ff"/>
                </a:solidFill>
                <a:latin typeface="Arial"/>
              </a:rPr>
              <a:t>Paul Bree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p 5 Industrial Distributo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77043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5537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5537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5537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5537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.Buckeye Pumps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$377,95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5537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.ALEDco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$294,98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5537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3.Hopkins Technical Products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$258,88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5537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4.Fluid Engineering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$250,4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5537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5.Humbleton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$236,5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p 5 Municipal Distributo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77043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5489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5489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5489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.AMJ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$1,080,3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5489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.Hopkins Technical Products, Inc.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$852,0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5489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3.Hydro Kinetics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$466,1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5489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4.Macaulay Controls Co.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$442,38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5489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5.Aqua Products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$277,89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O Awar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77043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5537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5537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5537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spcBef>
                <a:spcPts val="1100"/>
              </a:spcBef>
              <a:buNone/>
              <a:tabLst>
                <a:tab algn="l" pos="0"/>
                <a:tab algn="l" pos="5537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Hopkins Technical Produ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spcBef>
                <a:spcPts val="1100"/>
              </a:spcBef>
              <a:buNone/>
              <a:tabLst>
                <a:tab algn="l" pos="0"/>
                <a:tab algn="l" pos="5537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Rich Hopk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BITA Awar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77043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5537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5537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5537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spcBef>
                <a:spcPts val="1500"/>
              </a:spcBef>
              <a:buNone/>
              <a:tabLst>
                <a:tab algn="l" pos="0"/>
                <a:tab algn="l" pos="5537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Arial"/>
              </a:rPr>
              <a:t>Aqua Product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spcBef>
                <a:spcPts val="1500"/>
              </a:spcBef>
              <a:buNone/>
              <a:tabLst>
                <a:tab algn="l" pos="0"/>
                <a:tab algn="l" pos="5537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Arial"/>
              </a:rPr>
              <a:t>Ronnie Jon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5T13:09:43Z</dcterms:created>
  <dc:creator>Mike St. Germain</dc:creator>
  <dc:description/>
  <dc:language>en-US</dc:language>
  <cp:lastModifiedBy>Janet Berbach</cp:lastModifiedBy>
  <dcterms:modified xsi:type="dcterms:W3CDTF">2009-04-22T22:39:03Z</dcterms:modified>
  <cp:revision>5</cp:revision>
  <dc:subject/>
  <dc:title>Top 5 Industrial Distributors</dc:title>
</cp:coreProperties>
</file>