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46BA-A627-4CDA-BF96-18CD12BF96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F1EC-6D59-4C05-8A80-DD8FD318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71B71-2724-4800-8E53-15271AAB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3092C-9865-48C2-95ED-32DFDF62BB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4778-5E86-4137-A507-3A6448AF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CFDA-50A6-4ACD-A5EE-EEC1F7CC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86BC-C9CA-4015-9C5D-455E74D3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106BE-F900-4CC6-9961-48388FC1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1F44-BD72-41FE-A398-392E5B04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D9B7-9A60-4503-A25A-8C7826C6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03DCA-0F97-4195-8A08-0B1155F1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868C-DDEE-4D12-B213-6166B383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8F2C-C30D-4E4B-9D8D-AAB3801B5441}" type="slidenum">
              <a:rPr b="0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5929200" y="1100160"/>
            <a:ext cx="2229840" cy="122040"/>
            <a:chOff x="5929200" y="1100160"/>
            <a:chExt cx="2229840" cy="122040"/>
          </a:xfrm>
        </p:grpSpPr>
        <p:sp>
          <p:nvSpPr>
            <p:cNvPr id="12" name="Rectangle 14"/>
            <p:cNvSpPr/>
            <p:nvPr/>
          </p:nvSpPr>
          <p:spPr>
            <a:xfrm>
              <a:off x="592920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9911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04980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6113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17364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2139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625896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63140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633960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63669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64346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646164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653364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6599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665820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675900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680364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68644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9264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986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70556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70819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7141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720720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727452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730980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74088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74649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5074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75672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76125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6428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769428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77374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77979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85520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89480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994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805284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811404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91" name="Freeform 3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93" name="Freeform 5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9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99" name="Rectangle 6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6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8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9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9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9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52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5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106"/>
          <p:cNvSpPr/>
          <p:nvPr/>
        </p:nvSpPr>
        <p:spPr>
          <a:xfrm>
            <a:off x="633240" y="320688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5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9280" y="3544920"/>
            <a:ext cx="77043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nent Fluid Controls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09120" y="14479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ine Diox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ies CDVc and CDK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rect connection of 2 amperometric sensor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asurement/display of ClO</a:t>
            </a:r>
            <a:r>
              <a:rPr b="1" lang="de-DE" sz="2400" spc="-1" strike="noStrike" baseline="-2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d 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8320" y="2514600"/>
            <a:ext cx="320040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pl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fibus 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DN (dig/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SM (glob/mo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Grundmodell_2"/>
          <p:cNvPicPr/>
          <p:nvPr/>
        </p:nvPicPr>
        <p:blipFill>
          <a:blip r:embed="rId1"/>
          <a:stretch/>
        </p:blipFill>
        <p:spPr>
          <a:xfrm>
            <a:off x="914400" y="2590920"/>
            <a:ext cx="3240000" cy="3659040"/>
          </a:xfrm>
          <a:prstGeom prst="rect">
            <a:avLst/>
          </a:prstGeom>
          <a:ln w="28440">
            <a:solidFill>
              <a:srgbClr val="2d2d8a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lorine Dioxide and Chlorit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1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ClO</a:t>
            </a:r>
            <a:r>
              <a:rPr b="1" lang="de-DE" sz="2400" spc="-1" strike="noStrike" baseline="-2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chlorite, pH, 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gle variabl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ClO</a:t>
            </a:r>
            <a:r>
              <a:rPr b="1" lang="de-DE" sz="2400" spc="-1" strike="noStrike" baseline="-2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al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tometer: DT4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1" lang="de-DE" sz="2400" spc="-1" strike="noStrike" baseline="-2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486400" y="1519200"/>
            <a:ext cx="2730600" cy="2747880"/>
          </a:xfrm>
          <a:prstGeom prst="rect">
            <a:avLst/>
          </a:prstGeom>
          <a:ln w="28440">
            <a:solidFill>
              <a:srgbClr val="2d2d8a"/>
            </a:solidFill>
            <a:miter/>
          </a:ln>
        </p:spPr>
      </p:pic>
      <p:pic>
        <p:nvPicPr>
          <p:cNvPr id="234" name="Picture 5" descr=""/>
          <p:cNvPicPr/>
          <p:nvPr/>
        </p:nvPicPr>
        <p:blipFill>
          <a:blip r:embed="rId2"/>
          <a:srcRect l="2699" t="0" r="2699" b="0"/>
          <a:stretch/>
        </p:blipFill>
        <p:spPr>
          <a:xfrm>
            <a:off x="4876920" y="4435560"/>
            <a:ext cx="3352680" cy="2117520"/>
          </a:xfrm>
          <a:prstGeom prst="rect">
            <a:avLst/>
          </a:prstGeom>
          <a:ln w="28440">
            <a:solidFill>
              <a:srgbClr val="2d2d8a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809880" cy="2438640"/>
          </a:xfrm>
          <a:prstGeom prst="rect">
            <a:avLst/>
          </a:prstGeom>
          <a:ln w="28440">
            <a:solidFill>
              <a:srgbClr val="2d2d8a"/>
            </a:solidFill>
            <a:miter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es for Chlorine Dioxide and Chlor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lcotest CDE 2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chlorine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measuring range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0, 2, and 0.5 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lcotest CDP 1 (2 ppm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chlorine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 probe for process water contaminated with detergents (bottle washing machine, CIP-pla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lcotest CLT 1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measuring range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and 0.5 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02468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ty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4026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d solution is only 2% (20,000 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e well below max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8,000 ppm (300 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explo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rate at 1,000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d in an enclosed reactor ho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or housing is automatically purged via an injector and solenoid valve up to 6 times per hour (every 10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ctor chamber is always full of solution – not 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02468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ty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sensor on bypass water line adjusts the amount of chlorine dioxide gener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ine dioxide injection into the bypass water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is controlled by a ProMinent chlorine dioxide residual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ring pump flow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 mounted ClO</a:t>
            </a:r>
            <a:r>
              <a:rPr b="1" lang="en-US" sz="2400" spc="-1" strike="noStrike" baseline="-2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s monitor (o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02468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nent personnel can do start-up (f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e Pittsburgh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nent yearly service contrac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uild and calibration of p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ect reactor and pi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e parts kits available for each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ite and Acid Suppl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ul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cross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Water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a-Ald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nent ClO</a:t>
            </a:r>
            <a:r>
              <a:rPr b="1" lang="en-US" sz="2400" spc="-1" strike="noStrike" baseline="-2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yst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cursor chemic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Chlorite (7.5% &amp; 2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chloric Acid (9% and 3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ring pump accuracy (no ventu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a 2% (20,000 ppm s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-90%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ine-free solution (no hypo or 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HM’s or pH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loramine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nent BelloZon CDV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Picture 4.png"/>
          <p:cNvPicPr/>
          <p:nvPr/>
        </p:nvPicPr>
        <p:blipFill>
          <a:blip r:embed="rId1"/>
          <a:stretch/>
        </p:blipFill>
        <p:spPr>
          <a:xfrm>
            <a:off x="609480" y="1447920"/>
            <a:ext cx="8001000" cy="4944960"/>
          </a:xfrm>
          <a:prstGeom prst="rect">
            <a:avLst/>
          </a:prstGeom>
          <a:ln w="28440">
            <a:solidFill>
              <a:srgbClr val="2d2d8a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DVc 02_06  15_120g_h 2007_12_19"/>
          <p:cNvPicPr/>
          <p:nvPr/>
        </p:nvPicPr>
        <p:blipFill>
          <a:blip r:embed="rId1"/>
          <a:stretch/>
        </p:blipFill>
        <p:spPr>
          <a:xfrm>
            <a:off x="2556000" y="1447920"/>
            <a:ext cx="3990960" cy="4952880"/>
          </a:xfrm>
          <a:prstGeom prst="rect">
            <a:avLst/>
          </a:prstGeom>
          <a:ln w="28440">
            <a:solidFill>
              <a:srgbClr val="2d2d8a"/>
            </a:solidFill>
            <a:miter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llo Zon CDVc for Diluted Chemic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179280" y="2287440"/>
            <a:ext cx="4032360" cy="925560"/>
            <a:chOff x="179280" y="2287440"/>
            <a:chExt cx="4032360" cy="925560"/>
          </a:xfrm>
        </p:grpSpPr>
        <p:sp>
          <p:nvSpPr>
            <p:cNvPr id="190" name="Line 5"/>
            <p:cNvSpPr/>
            <p:nvPr/>
          </p:nvSpPr>
          <p:spPr>
            <a:xfrm flipV="1">
              <a:off x="2268360" y="2637000"/>
              <a:ext cx="1943280" cy="71280"/>
            </a:xfrm>
            <a:prstGeom prst="line">
              <a:avLst/>
            </a:prstGeom>
            <a:ln w="28440">
              <a:solidFill>
                <a:srgbClr val="ec7c1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179280" y="2287440"/>
              <a:ext cx="2124360" cy="92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VDF reactor and reactor-out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7"/>
          <p:cNvGrpSpPr/>
          <p:nvPr/>
        </p:nvGrpSpPr>
        <p:grpSpPr>
          <a:xfrm>
            <a:off x="179280" y="2781000"/>
            <a:ext cx="3816360" cy="1584720"/>
            <a:chOff x="179280" y="2781000"/>
            <a:chExt cx="3816360" cy="1584720"/>
          </a:xfrm>
        </p:grpSpPr>
        <p:sp>
          <p:nvSpPr>
            <p:cNvPr id="193" name="Line 8"/>
            <p:cNvSpPr/>
            <p:nvPr/>
          </p:nvSpPr>
          <p:spPr>
            <a:xfrm flipV="1">
              <a:off x="2268360" y="2781000"/>
              <a:ext cx="1727280" cy="1152360"/>
            </a:xfrm>
            <a:prstGeom prst="line">
              <a:avLst/>
            </a:prstGeom>
            <a:ln w="28440">
              <a:solidFill>
                <a:srgbClr val="ec7c1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179280" y="3500280"/>
              <a:ext cx="212436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eactor cover for prot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"/>
          <p:cNvGrpSpPr/>
          <p:nvPr/>
        </p:nvGrpSpPr>
        <p:grpSpPr>
          <a:xfrm>
            <a:off x="4649760" y="4929120"/>
            <a:ext cx="4311720" cy="1001880"/>
            <a:chOff x="4649760" y="4929120"/>
            <a:chExt cx="4311720" cy="1001880"/>
          </a:xfrm>
        </p:grpSpPr>
        <p:sp>
          <p:nvSpPr>
            <p:cNvPr id="196" name="Freeform 11"/>
            <p:cNvSpPr/>
            <p:nvPr/>
          </p:nvSpPr>
          <p:spPr>
            <a:xfrm>
              <a:off x="4649760" y="5378400"/>
              <a:ext cx="2179800" cy="552600"/>
            </a:xfrm>
            <a:prstGeom prst="pie">
              <a:avLst/>
            </a:prstGeom>
            <a:noFill/>
            <a:ln w="28440">
              <a:solidFill>
                <a:srgbClr val="ec7c1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6837480" y="4929120"/>
              <a:ext cx="2124000" cy="92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urge assembly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or reactor (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ptiona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3"/>
          <p:cNvGrpSpPr/>
          <p:nvPr/>
        </p:nvGrpSpPr>
        <p:grpSpPr>
          <a:xfrm>
            <a:off x="5343480" y="1428840"/>
            <a:ext cx="3618000" cy="654120"/>
            <a:chOff x="5343480" y="1428840"/>
            <a:chExt cx="3618000" cy="654120"/>
          </a:xfrm>
        </p:grpSpPr>
        <p:sp>
          <p:nvSpPr>
            <p:cNvPr id="199" name="Freeform 14"/>
            <p:cNvSpPr/>
            <p:nvPr/>
          </p:nvSpPr>
          <p:spPr>
            <a:xfrm rot="21241200">
              <a:off x="5357520" y="1649880"/>
              <a:ext cx="1522440" cy="354600"/>
            </a:xfrm>
            <a:prstGeom prst="pie">
              <a:avLst/>
            </a:prstGeom>
            <a:noFill/>
            <a:ln w="28440">
              <a:solidFill>
                <a:srgbClr val="ec7c1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5"/>
            <p:cNvSpPr/>
            <p:nvPr/>
          </p:nvSpPr>
          <p:spPr>
            <a:xfrm>
              <a:off x="6837480" y="1428840"/>
              <a:ext cx="2124000" cy="32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tic mix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"/>
          <p:cNvGrpSpPr/>
          <p:nvPr/>
        </p:nvGrpSpPr>
        <p:grpSpPr>
          <a:xfrm>
            <a:off x="179280" y="1341360"/>
            <a:ext cx="3313080" cy="650880"/>
            <a:chOff x="179280" y="1341360"/>
            <a:chExt cx="3313080" cy="650880"/>
          </a:xfrm>
        </p:grpSpPr>
        <p:sp>
          <p:nvSpPr>
            <p:cNvPr id="202" name="Line 17"/>
            <p:cNvSpPr/>
            <p:nvPr/>
          </p:nvSpPr>
          <p:spPr>
            <a:xfrm>
              <a:off x="1981080" y="1641600"/>
              <a:ext cx="1511280" cy="131760"/>
            </a:xfrm>
            <a:prstGeom prst="line">
              <a:avLst/>
            </a:prstGeom>
            <a:ln w="28440">
              <a:solidFill>
                <a:srgbClr val="ec7c1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179280" y="1341360"/>
              <a:ext cx="2124360" cy="65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ackpanel for wall moun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86200" y="3929040"/>
            <a:ext cx="4173480" cy="652320"/>
            <a:chOff x="4786200" y="3929040"/>
            <a:chExt cx="4173480" cy="652320"/>
          </a:xfrm>
        </p:grpSpPr>
        <p:sp>
          <p:nvSpPr>
            <p:cNvPr id="205" name="Text Box 20"/>
            <p:cNvSpPr/>
            <p:nvPr/>
          </p:nvSpPr>
          <p:spPr>
            <a:xfrm>
              <a:off x="6835680" y="3929040"/>
              <a:ext cx="2124000" cy="641160"/>
            </a:xfrm>
            <a:prstGeom prst="rect">
              <a:avLst/>
            </a:prstGeom>
            <a:noFill/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ering pumps in CAN-bus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1"/>
            <p:cNvSpPr/>
            <p:nvPr/>
          </p:nvSpPr>
          <p:spPr>
            <a:xfrm>
              <a:off x="4786200" y="4286160"/>
              <a:ext cx="2070000" cy="295200"/>
            </a:xfrm>
            <a:prstGeom prst="pie">
              <a:avLst/>
            </a:prstGeom>
            <a:noFill/>
            <a:ln w="28440">
              <a:solidFill>
                <a:srgbClr val="ec7c1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22"/>
          <p:cNvGrpSpPr/>
          <p:nvPr/>
        </p:nvGrpSpPr>
        <p:grpSpPr>
          <a:xfrm>
            <a:off x="5786280" y="1857240"/>
            <a:ext cx="3175200" cy="925560"/>
            <a:chOff x="5786280" y="1857240"/>
            <a:chExt cx="3175200" cy="925560"/>
          </a:xfrm>
        </p:grpSpPr>
        <p:sp>
          <p:nvSpPr>
            <p:cNvPr id="208" name="Text Box 23"/>
            <p:cNvSpPr/>
            <p:nvPr/>
          </p:nvSpPr>
          <p:spPr>
            <a:xfrm>
              <a:off x="6837480" y="1857240"/>
              <a:ext cx="2124000" cy="925560"/>
            </a:xfrm>
            <a:prstGeom prst="rect">
              <a:avLst/>
            </a:prstGeom>
            <a:noFill/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ntroller with data logger and screen rec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4"/>
            <p:cNvSpPr/>
            <p:nvPr/>
          </p:nvSpPr>
          <p:spPr>
            <a:xfrm flipV="1">
              <a:off x="5786280" y="2357280"/>
              <a:ext cx="1071720" cy="285840"/>
            </a:xfrm>
            <a:prstGeom prst="pie">
              <a:avLst/>
            </a:prstGeom>
            <a:noFill/>
            <a:ln w="28440">
              <a:solidFill>
                <a:srgbClr val="ec7c1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5"/>
          <p:cNvGrpSpPr/>
          <p:nvPr/>
        </p:nvGrpSpPr>
        <p:grpSpPr>
          <a:xfrm>
            <a:off x="179280" y="3860640"/>
            <a:ext cx="3384720" cy="2033640"/>
            <a:chOff x="179280" y="3860640"/>
            <a:chExt cx="3384720" cy="2033640"/>
          </a:xfrm>
        </p:grpSpPr>
        <p:sp>
          <p:nvSpPr>
            <p:cNvPr id="211" name="Freeform 26"/>
            <p:cNvSpPr/>
            <p:nvPr/>
          </p:nvSpPr>
          <p:spPr>
            <a:xfrm>
              <a:off x="2286000" y="3860640"/>
              <a:ext cx="1278000" cy="1368720"/>
            </a:xfrm>
            <a:prstGeom prst="pie">
              <a:avLst/>
            </a:prstGeom>
            <a:noFill/>
            <a:ln w="28440">
              <a:solidFill>
                <a:srgbClr val="ec7c1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7"/>
            <p:cNvSpPr/>
            <p:nvPr/>
          </p:nvSpPr>
          <p:spPr>
            <a:xfrm>
              <a:off x="2295360" y="4943520"/>
              <a:ext cx="1052640" cy="285840"/>
            </a:xfrm>
            <a:prstGeom prst="pie">
              <a:avLst/>
            </a:prstGeom>
            <a:noFill/>
            <a:ln w="28440">
              <a:solidFill>
                <a:srgbClr val="ec7c1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8"/>
            <p:cNvSpPr/>
            <p:nvPr/>
          </p:nvSpPr>
          <p:spPr>
            <a:xfrm>
              <a:off x="179280" y="4724280"/>
              <a:ext cx="2124360" cy="1170000"/>
            </a:xfrm>
            <a:prstGeom prst="rect">
              <a:avLst/>
            </a:prstGeom>
            <a:noFill/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alibration and suction aid with vacuum pump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(optiona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9"/>
          <p:cNvGrpSpPr/>
          <p:nvPr/>
        </p:nvGrpSpPr>
        <p:grpSpPr>
          <a:xfrm>
            <a:off x="4572000" y="3062160"/>
            <a:ext cx="4387320" cy="1223640"/>
            <a:chOff x="4572000" y="3062160"/>
            <a:chExt cx="4387320" cy="1223640"/>
          </a:xfrm>
        </p:grpSpPr>
        <p:sp>
          <p:nvSpPr>
            <p:cNvPr id="215" name="Text Box 20"/>
            <p:cNvSpPr/>
            <p:nvPr/>
          </p:nvSpPr>
          <p:spPr>
            <a:xfrm>
              <a:off x="6835680" y="3062160"/>
              <a:ext cx="2123640" cy="641160"/>
            </a:xfrm>
            <a:prstGeom prst="rect">
              <a:avLst/>
            </a:prstGeom>
            <a:noFill/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ngle strok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low se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4572000" y="3419280"/>
              <a:ext cx="2284200" cy="866520"/>
            </a:xfrm>
            <a:prstGeom prst="pie">
              <a:avLst/>
            </a:prstGeom>
            <a:noFill/>
            <a:ln w="28440">
              <a:solidFill>
                <a:srgbClr val="ec7c1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pacity Range CDVc (dilute chemical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14240" y="1397160"/>
          <a:ext cx="7500960" cy="4890960"/>
        </p:xfrm>
        <a:graphic>
          <a:graphicData uri="http://schemas.openxmlformats.org/drawingml/2006/table">
            <a:tbl>
              <a:tblPr/>
              <a:tblGrid>
                <a:gridCol w="1874880"/>
                <a:gridCol w="1876680"/>
                <a:gridCol w="1874520"/>
                <a:gridCol w="1874880"/>
              </a:tblGrid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O</a:t>
                      </a:r>
                      <a:r>
                        <a:rPr b="1" lang="en-GB" sz="2200" spc="-1" strike="noStrike" baseline="-15000">
                          <a:solidFill>
                            <a:srgbClr val="000066"/>
                          </a:solidFill>
                          <a:latin typeface="Arial"/>
                        </a:rPr>
                        <a:t>2 </a:t>
                      </a: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utput</a:t>
                      </a:r>
                      <a:br>
                        <a:rPr sz="2200"/>
                      </a:br>
                      <a:br>
                        <a:rPr sz="2200"/>
                      </a:b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g/h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perating pressure</a:t>
                      </a:r>
                      <a:br>
                        <a:rPr sz="2200"/>
                      </a:b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psi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perating temperature</a:t>
                      </a:r>
                      <a:br>
                        <a:rPr sz="2200"/>
                      </a:b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°C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Vc 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Vc 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-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Vc 1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-1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Vc 2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-2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Vc 6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0-6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Vc 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-2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Vc Ch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Vb 15, 35, 60, 220, 400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Vc 600 (derate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6 psi –&gt; 73 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Vc 2000 (derate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2 psi –&gt; 29 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DVc Featur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ogging (+400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measurement of ClO</a:t>
            </a:r>
            <a:r>
              <a:rPr b="1" lang="en-US" sz="2400" spc="-1" strike="noStrike" baseline="-2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VDF Re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physical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pacity Range CDKc (concentrated chemical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714240" y="1397160"/>
          <a:ext cx="7500960" cy="4890960"/>
        </p:xfrm>
        <a:graphic>
          <a:graphicData uri="http://schemas.openxmlformats.org/drawingml/2006/table">
            <a:tbl>
              <a:tblPr/>
              <a:tblGrid>
                <a:gridCol w="1874880"/>
                <a:gridCol w="1876680"/>
                <a:gridCol w="1874520"/>
                <a:gridCol w="1874880"/>
              </a:tblGrid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O</a:t>
                      </a:r>
                      <a:r>
                        <a:rPr b="1" lang="en-GB" sz="2200" spc="-1" strike="noStrike" baseline="-15000">
                          <a:solidFill>
                            <a:srgbClr val="000066"/>
                          </a:solidFill>
                          <a:latin typeface="Arial"/>
                        </a:rPr>
                        <a:t>2 </a:t>
                      </a: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utput</a:t>
                      </a:r>
                      <a:br>
                        <a:rPr sz="2200"/>
                      </a:br>
                      <a:br>
                        <a:rPr sz="2200"/>
                      </a:b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g/h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perating pressure</a:t>
                      </a:r>
                      <a:br>
                        <a:rPr sz="2200"/>
                      </a:b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psi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perating temperature</a:t>
                      </a:r>
                      <a:br>
                        <a:rPr sz="2200"/>
                      </a:b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°C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Kc 1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Kc </a:t>
                      </a: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Kc 9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Kc 2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Kc 3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Kc 7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,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Kc Ch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Kc 150, 750, 1500, 6000, 10,000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6:53:19Z</dcterms:created>
  <dc:creator>Noel Twyman</dc:creator>
  <dc:description/>
  <dc:language>en-US</dc:language>
  <cp:lastModifiedBy>Janet Berbach</cp:lastModifiedBy>
  <dcterms:modified xsi:type="dcterms:W3CDTF">2009-04-26T22:12:34Z</dcterms:modified>
  <cp:revision>76</cp:revision>
  <dc:subject/>
  <dc:title>Executive Team Meeting</dc:title>
</cp:coreProperties>
</file>