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388728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4"/>
          </p:nvPr>
        </p:nvSpPr>
        <p:spPr>
          <a:xfrm>
            <a:off x="-1440" y="8831160"/>
            <a:ext cx="29700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5"/>
          </p:nvPr>
        </p:nvSpPr>
        <p:spPr>
          <a:xfrm>
            <a:off x="388728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fld id="{C996AAF8-7DCA-4AE8-B4D2-F5613934DB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Img"/>
          </p:nvPr>
        </p:nvSpPr>
        <p:spPr>
          <a:xfrm>
            <a:off x="111240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7760" cy="41832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E57647-A096-4378-A6DE-1045A622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you guys are good with pumps, some are good with instrumentation, Million dollar club is good with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ave learned to integrate and sell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DB655E-7CAC-42D1-8E8F-898DD68F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you guys are good with pumps, some are good with instrumentation, Million dollar club is good with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ave learned to integrate and sell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3855EB-CCE7-40A7-B40B-0B08B4AF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you guys are good with pumps, some are good with instrumentation, Million dollar club is good with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ave learned to integrate and sell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F20A1B-3A40-4DB4-9C81-3A7B85B5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you guys are good with pumps, some are good with instrumentation, Million dollar club is good with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E632B2-666C-4153-8EA5-C0322FA11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you guys are good with pumps, some are good with instrumentation, Million dollar club is good with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ave learned to integrate and sell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7550-6522-44BE-A368-7F7B6D0F97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B692-9FF2-4AD3-A148-EB83904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AEBB-18E4-40E0-8B93-03D7653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2887-98C2-4C45-A036-50DAE186B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5A93-7A5E-4D5E-8BE1-996A4E35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02AA-2778-45D5-846E-44FA6F0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4E1A-318F-4632-89FE-07B876CA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924E-104B-44B9-8CEC-048FF9A8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7988-FBD8-495E-8C18-A582B9C1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20F3-15E3-469F-B236-35FCE1E5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46CC-688A-48D7-8D6A-8305CC8C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2098-E6BA-416E-8189-27952E3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Frei/Sanns                   26.03.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5F62-F26B-44CC-9302-4938E06AE34A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Fluid Controls, In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66578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eting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GalaFow"/>
          <p:cNvPicPr/>
          <p:nvPr/>
        </p:nvPicPr>
        <p:blipFill>
          <a:blip r:embed="rId1"/>
          <a:stretch/>
        </p:blipFill>
        <p:spPr>
          <a:xfrm>
            <a:off x="3733920" y="171468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enoid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ma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enoid (0.3 to 8.4 g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Pum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ojects and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end LMI &amp; Grundf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enoid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enoid (0.3 to 21 g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Pum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o-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o-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ojects and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to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delta"/>
          <p:cNvPicPr/>
          <p:nvPr/>
        </p:nvPicPr>
        <p:blipFill>
          <a:blip r:embed="rId1"/>
          <a:stretch/>
        </p:blipFill>
        <p:spPr>
          <a:xfrm>
            <a:off x="4884840" y="1600200"/>
            <a:ext cx="3344760" cy="403848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-Driven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driven (5 to 264 g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Pum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Gamma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to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3-Sigmas"/>
          <p:cNvPicPr/>
          <p:nvPr/>
        </p:nvPicPr>
        <p:blipFill>
          <a:blip r:embed="rId1"/>
          <a:stretch/>
        </p:blipFill>
        <p:spPr>
          <a:xfrm>
            <a:off x="4419720" y="2859120"/>
            <a:ext cx="388764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-Driven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essure – 3500 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g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ulically Actuated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VDF for Bl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, Hast-C, Alloy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-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06"/>
          <p:cNvPicPr/>
          <p:nvPr/>
        </p:nvPicPr>
        <p:blipFill>
          <a:blip r:embed="rId1"/>
          <a:stretch/>
        </p:blipFill>
        <p:spPr>
          <a:xfrm>
            <a:off x="4343400" y="3382920"/>
            <a:ext cx="4648320" cy="30942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makro2"/>
          <p:cNvPicPr/>
          <p:nvPr/>
        </p:nvPicPr>
        <p:blipFill>
          <a:blip r:embed="rId1"/>
          <a:stretch/>
        </p:blipFill>
        <p:spPr>
          <a:xfrm>
            <a:off x="4343400" y="2954160"/>
            <a:ext cx="4800600" cy="39038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-Driven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x (33 to 658 g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ex (66 to 1316 g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lex (up to 5 liquid 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high capacity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ost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DR"/>
          <p:cNvPicPr/>
          <p:nvPr/>
        </p:nvPicPr>
        <p:blipFill>
          <a:blip r:embed="rId1"/>
          <a:stretch/>
        </p:blipFill>
        <p:spPr>
          <a:xfrm>
            <a:off x="3276720" y="3886200"/>
            <a:ext cx="5486400" cy="3309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ty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FS – Teflon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HS – SS diaphragm (highest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 – Packed pl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– Valveless rotary pi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ty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no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ro G/5 – very low flow pl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lcoflex – peristaltic for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_4a – pump and an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ados – air operated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 C – low cost for CV/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02"/>
          <p:cNvPicPr/>
          <p:nvPr/>
        </p:nvPicPr>
        <p:blipFill>
          <a:blip r:embed="rId1"/>
          <a:stretch/>
        </p:blipFill>
        <p:spPr>
          <a:xfrm>
            <a:off x="3112920" y="1981080"/>
            <a:ext cx="6716880" cy="4438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318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1C Analyzer/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9600" indent="-2455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variab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/total 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ne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-2412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Ta 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wir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variab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/total 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DMTa"/>
          <p:cNvPicPr/>
          <p:nvPr/>
        </p:nvPicPr>
        <p:blipFill>
          <a:blip r:embed="rId1"/>
          <a:stretch/>
        </p:blipFill>
        <p:spPr>
          <a:xfrm>
            <a:off x="5638680" y="2133720"/>
            <a:ext cx="260208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575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variab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/total/combined 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 card for 400 day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\\Pfc-filesrv\Marketing\noel\~pump pix\DDC\dulcomarin_2.jpg"/>
          <p:cNvPicPr/>
          <p:nvPr/>
        </p:nvPicPr>
        <p:blipFill>
          <a:blip r:embed="rId1"/>
          <a:stretch/>
        </p:blipFill>
        <p:spPr>
          <a:xfrm>
            <a:off x="4267080" y="1600200"/>
            <a:ext cx="3853080" cy="299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ProMinent Glob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0560" y="1486080"/>
            <a:ext cx="534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50 million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 affiliated subsidi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manufactur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ly owned since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Q in Heidel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aq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3886200" cy="26668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atrac Instr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Tow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il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9600" indent="-2455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9600" indent="-2455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cide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9600" indent="-2455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or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9600" indent="-2455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9600" indent="-2455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/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9600" indent="-2455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cap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mFlex/ProMt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2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\\Pfc-filesrv\Marketing\noel\~pump pix\ProMtrac\FaceLabels.jpg"/>
          <p:cNvPicPr/>
          <p:nvPr/>
        </p:nvPicPr>
        <p:blipFill>
          <a:blip r:embed="rId1"/>
          <a:stretch/>
        </p:blipFill>
        <p:spPr>
          <a:xfrm>
            <a:off x="4343400" y="1523880"/>
            <a:ext cx="3733920" cy="2800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d solution comb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NASS1.jpg"/>
          <p:cNvPicPr/>
          <p:nvPr/>
        </p:nvPicPr>
        <p:blipFill>
          <a:blip r:embed="rId1"/>
          <a:stretch/>
        </p:blipFill>
        <p:spPr>
          <a:xfrm>
            <a:off x="4952880" y="1447920"/>
            <a:ext cx="3251160" cy="4876560"/>
          </a:xfrm>
          <a:prstGeom prst="rect">
            <a:avLst/>
          </a:prstGeom>
          <a:ln w="25560">
            <a:solidFill>
              <a:srgbClr val="222268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 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 508, NFPA 70 (NEC), &amp; NFPA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designs on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panel1"/>
          <p:cNvPicPr/>
          <p:nvPr/>
        </p:nvPicPr>
        <p:blipFill>
          <a:blip r:embed="rId1"/>
          <a:stretch/>
        </p:blipFill>
        <p:spPr>
          <a:xfrm>
            <a:off x="990720" y="3429000"/>
            <a:ext cx="2755800" cy="281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panel2"/>
          <p:cNvPicPr/>
          <p:nvPr/>
        </p:nvPicPr>
        <p:blipFill>
          <a:blip r:embed="rId2"/>
          <a:stretch/>
        </p:blipFill>
        <p:spPr>
          <a:xfrm>
            <a:off x="4343400" y="2971800"/>
            <a:ext cx="3851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ty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o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ne Dioxid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o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o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l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 Dis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&amp; Dry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CDVa"/>
          <p:cNvPicPr/>
          <p:nvPr/>
        </p:nvPicPr>
        <p:blipFill>
          <a:blip r:embed="rId1"/>
          <a:stretch/>
        </p:blipFill>
        <p:spPr>
          <a:xfrm>
            <a:off x="4038480" y="1143000"/>
            <a:ext cx="46944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rmation of ProMinent Grou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27" descr="Gebäude"/>
          <p:cNvPicPr/>
          <p:nvPr/>
        </p:nvPicPr>
        <p:blipFill>
          <a:blip r:embed="rId1"/>
          <a:stretch/>
        </p:blipFill>
        <p:spPr>
          <a:xfrm>
            <a:off x="685800" y="2057400"/>
            <a:ext cx="3657600" cy="25797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96" name="Picture 1028" descr="USA Kopie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259560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97" name="Text Box 1029"/>
          <p:cNvSpPr/>
          <p:nvPr/>
        </p:nvSpPr>
        <p:spPr>
          <a:xfrm>
            <a:off x="4800600" y="4724280"/>
            <a:ext cx="4038480" cy="246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ProMinent Fluid Controls Inc., Pittsburgh, Pennsylvania, U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685800" y="4724280"/>
            <a:ext cx="3657600" cy="246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ProMinent Dosiertechnik GmbH, Heidelberg, 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762120" y="5410080"/>
            <a:ext cx="7619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31 Years in the United Stat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!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nent U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in 1978 in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cated to Pitts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6 million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d Aquatrac 11/1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d Hopkins Technical Products 1/1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17,000 sq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C Commit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upport from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ervice in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/privately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dth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people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luid Controls, 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Product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duct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enoid Metering P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-Driven Metering P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tical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t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Conceptplus"/>
          <p:cNvPicPr/>
          <p:nvPr/>
        </p:nvPicPr>
        <p:blipFill>
          <a:blip r:embed="rId1"/>
          <a:stretch/>
        </p:blipFill>
        <p:spPr>
          <a:xfrm>
            <a:off x="2971800" y="3124080"/>
            <a:ext cx="5543640" cy="3429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enoid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enoid (0.25 to 3.4 g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st, low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enoid 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enoid (0.3 to 8.4 g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BETA2A"/>
          <p:cNvPicPr/>
          <p:nvPr/>
        </p:nvPicPr>
        <p:blipFill>
          <a:blip r:embed="rId1"/>
          <a:stretch/>
        </p:blipFill>
        <p:spPr>
          <a:xfrm>
            <a:off x="4727520" y="1676520"/>
            <a:ext cx="39211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2-07T23:22:36Z</dcterms:created>
  <dc:creator>Microsoft Corporation</dc:creator>
  <dc:description/>
  <cp:keywords/>
  <dc:language>en-US</dc:language>
  <cp:lastModifiedBy>Janet Berbach</cp:lastModifiedBy>
  <cp:lastPrinted>2000-05-31T22:10:55Z</cp:lastPrinted>
  <dcterms:modified xsi:type="dcterms:W3CDTF">2009-04-26T21:16:52Z</dcterms:modified>
  <cp:revision>197</cp:revision>
  <dc:subject/>
  <dc:title>Lorem Ipsum</dc:title>
</cp:coreProperties>
</file>