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12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29.jpeg" ContentType="image/jpeg"/>
  <Override PartName="/ppt/media/image5.png" ContentType="image/png"/>
  <Override PartName="/ppt/media/image13.wmf" ContentType="image/x-wmf"/>
  <Override PartName="/ppt/media/image10.jpeg" ContentType="image/jpeg"/>
  <Override PartName="/ppt/media/image28.png" ContentType="image/png"/>
  <Override PartName="/ppt/media/image31.wmf" ContentType="image/x-wmf"/>
  <Override PartName="/ppt/media/image6.wmf" ContentType="image/x-wmf"/>
  <Override PartName="/ppt/media/image11.png" ContentType="image/png"/>
  <Override PartName="/ppt/media/image9.png" ContentType="image/png"/>
  <Override PartName="/ppt/media/image3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3.jpeg" ContentType="image/jpeg"/>
  <Override PartName="/ppt/media/image14.wmf" ContentType="image/x-wmf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1.wmf" ContentType="image/x-wmf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3920" cy="347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934C-03FA-4381-A861-C5C4A4EEF2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AD99-A270-4D78-BF1A-6112C268E2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CAC5-98E1-4DFD-916C-57C61001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3675-9F9F-4605-9A72-A9254BA0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CD641-3554-4FB8-953B-A7672F4E6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2793-C282-427C-94C9-484FD628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2376-969C-476F-B978-87319AC3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F7B5-7FA2-4788-AF2C-6DA26BB4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8FEB-BA45-436E-B6FC-A9761685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034D9-40C5-46C7-BEEE-54F55252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E7F0-4E02-4F61-89D1-38BDCBB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0DBE-BFA0-4612-8508-1CCC03DE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DF78-686D-4617-BEDF-3D5B2AE2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3000-7782-467A-B780-C2B8BD038476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89CB-DDDF-4932-9903-F5CE22DEE04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8920" y="1100160"/>
            <a:ext cx="2229840" cy="122040"/>
            <a:chOff x="5938920" y="1100160"/>
            <a:chExt cx="22298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89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600084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3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868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6872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4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49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37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6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184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89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3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597A-DAF6-4A77-8BE0-B8FB1FBF5DF6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271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273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278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4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9B56-588F-40EA-9ADC-02D9CEFB8640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360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362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367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5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4E87-FBC7-4007-A6DD-DADEFB603E40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449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451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456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6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1E70-7A22-48FF-873C-B5391775F35F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538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540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545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7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34FF-4A93-430E-A393-B634B6B16C6A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39280" y="3544920"/>
            <a:ext cx="77043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609120" y="14479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TC110(B)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ling Tower and Boiler Controll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3"/>
          <p:cNvSpPr/>
          <p:nvPr/>
        </p:nvSpPr>
        <p:spPr>
          <a:xfrm>
            <a:off x="7315200" y="63244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Jones 1/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4"/>
          <p:cNvGrpSpPr/>
          <p:nvPr/>
        </p:nvGrpSpPr>
        <p:grpSpPr>
          <a:xfrm>
            <a:off x="304920" y="685800"/>
            <a:ext cx="8457840" cy="5714640"/>
            <a:chOff x="304920" y="685800"/>
            <a:chExt cx="8457840" cy="5714640"/>
          </a:xfrm>
        </p:grpSpPr>
        <p:sp>
          <p:nvSpPr>
            <p:cNvPr id="706" name="Rectangle 2051"/>
            <p:cNvSpPr/>
            <p:nvPr/>
          </p:nvSpPr>
          <p:spPr>
            <a:xfrm>
              <a:off x="323640" y="685800"/>
              <a:ext cx="8439120" cy="5714640"/>
            </a:xfrm>
            <a:prstGeom prst="rect">
              <a:avLst/>
            </a:prstGeom>
            <a:solidFill>
              <a:srgbClr val="d0d0d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7" name="Object 3"/>
            <p:cNvGraphicFramePr/>
            <p:nvPr/>
          </p:nvGraphicFramePr>
          <p:xfrm>
            <a:off x="304920" y="790920"/>
            <a:ext cx="8391960" cy="550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790920"/>
                      <a:ext cx="8391960" cy="55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Object 5"/>
          <p:cNvGraphicFramePr/>
          <p:nvPr/>
        </p:nvGraphicFramePr>
        <p:xfrm>
          <a:off x="762120" y="990720"/>
          <a:ext cx="73911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3911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Rectangle 15361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873600" cy="37339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"/>
          <p:cNvSpPr/>
          <p:nvPr/>
        </p:nvSpPr>
        <p:spPr>
          <a:xfrm>
            <a:off x="228600" y="609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FLEX CONTROLLER - </a:t>
            </a:r>
            <a:r>
              <a:rPr b="1" lang="en-US" sz="2400" spc="-1" strike="noStrike">
                <a:solidFill>
                  <a:srgbClr val="000000"/>
                </a:solidFill>
                <a:latin typeface="Antique Olive Roman"/>
              </a:rPr>
              <a:t>Entry Level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533520" y="1371600"/>
            <a:ext cx="3774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Keypad - Easy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– Easy to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losure - NEMA 4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466880" y="1484280"/>
            <a:ext cx="37767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6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D515-0365-46A6-8658-218C9F430D9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1" descr=""/>
          <p:cNvPicPr/>
          <p:nvPr/>
        </p:nvPicPr>
        <p:blipFill>
          <a:blip r:embed="rId1"/>
          <a:stretch/>
        </p:blipFill>
        <p:spPr>
          <a:xfrm>
            <a:off x="609480" y="1209600"/>
            <a:ext cx="7848720" cy="524520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FLEX TOWER CONTROLLER - </a:t>
            </a:r>
            <a:r>
              <a:rPr b="1" lang="en-US" sz="2400" spc="-1" strike="noStrike">
                <a:solidFill>
                  <a:srgbClr val="000000"/>
                </a:solidFill>
                <a:latin typeface="Antique Olive Roman"/>
              </a:rPr>
              <a:t>Entry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DF6A-5316-4198-A428-95FA301B641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Rectangle 22529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3553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419360" cy="43354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69278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mFlex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Relay Tower Controller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952520" y="1523880"/>
            <a:ext cx="37767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Keypad - Easy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– Easy to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losure - NEMA 4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4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3E75-C039-43CD-9F4A-A818007BA3C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TOWER CONTROL / Typical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Relay Tower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ivit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able Inhibito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&amp; Bl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then Bl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 or ORP Control (in lieu of 2nd bioc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ONE of the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2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 Ethernet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rm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44FD-89CC-411A-8FE3-059AB27C356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Rectangle 25601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9" name="Object 11"/>
          <p:cNvGraphicFramePr/>
          <p:nvPr/>
        </p:nvGraphicFramePr>
        <p:xfrm>
          <a:off x="6095880" y="2743200"/>
          <a:ext cx="142092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743200"/>
                    <a:ext cx="14209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Object 24"/>
          <p:cNvGraphicFramePr/>
          <p:nvPr/>
        </p:nvGraphicFramePr>
        <p:xfrm>
          <a:off x="7086600" y="3809880"/>
          <a:ext cx="134460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2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3809880"/>
                    <a:ext cx="13446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3" name="Object 26" descr=""/>
          <p:cNvPicPr/>
          <p:nvPr/>
        </p:nvPicPr>
        <p:blipFill>
          <a:blip r:embed="rId5"/>
          <a:stretch/>
        </p:blipFill>
        <p:spPr>
          <a:xfrm>
            <a:off x="5943600" y="5334120"/>
            <a:ext cx="1158840" cy="1128600"/>
          </a:xfrm>
          <a:prstGeom prst="rect">
            <a:avLst/>
          </a:prstGeom>
          <a:ln w="0">
            <a:noFill/>
          </a:ln>
        </p:spPr>
      </p:pic>
      <p:sp>
        <p:nvSpPr>
          <p:cNvPr id="734" name="TextBox 5146"/>
          <p:cNvSpPr/>
          <p:nvPr/>
        </p:nvSpPr>
        <p:spPr>
          <a:xfrm>
            <a:off x="1523880" y="198108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3077"/>
          <p:cNvSpPr/>
          <p:nvPr/>
        </p:nvSpPr>
        <p:spPr>
          <a:xfrm>
            <a:off x="1355760" y="193680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Series - Custom Autom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Flex Serie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o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ling Tower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iler Blowdown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mming Pool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 Water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10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9C1-8D48-4B38-B38C-08FC2B2FAD8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9218"/>
          <p:cNvSpPr/>
          <p:nvPr/>
        </p:nvSpPr>
        <p:spPr>
          <a:xfrm>
            <a:off x="380880" y="4267080"/>
            <a:ext cx="8382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9219"/>
          <p:cNvSpPr/>
          <p:nvPr/>
        </p:nvSpPr>
        <p:spPr>
          <a:xfrm>
            <a:off x="685800" y="23623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226"/>
          <p:cNvSpPr/>
          <p:nvPr/>
        </p:nvSpPr>
        <p:spPr>
          <a:xfrm>
            <a:off x="22860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Series - Custom Autom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Flex Data Lo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4 analog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2 status inputs (for contact and flow meter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ntom inputs for manual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math functions (add, subtract, multiply and div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communications  (op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8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FE7A-CC2F-420D-B07E-C140CA744ED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4" descr="IMG_5404.jpg"/>
          <p:cNvPicPr/>
          <p:nvPr/>
        </p:nvPicPr>
        <p:blipFill>
          <a:blip r:embed="rId1"/>
          <a:stretch/>
        </p:blipFill>
        <p:spPr>
          <a:xfrm>
            <a:off x="685800" y="1523880"/>
            <a:ext cx="7429680" cy="49532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671" name="TextBox 2"/>
          <p:cNvSpPr/>
          <p:nvPr/>
        </p:nvSpPr>
        <p:spPr>
          <a:xfrm>
            <a:off x="2209680" y="380880"/>
            <a:ext cx="30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atrac Series Contro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6156"/>
          <p:cNvSpPr/>
          <p:nvPr/>
        </p:nvSpPr>
        <p:spPr>
          <a:xfrm>
            <a:off x="4724280" y="304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2"/>
          <p:cNvSpPr/>
          <p:nvPr/>
        </p:nvSpPr>
        <p:spPr>
          <a:xfrm>
            <a:off x="554688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1" descr="MultiFLEX_1"/>
          <p:cNvPicPr/>
          <p:nvPr/>
        </p:nvPicPr>
        <p:blipFill>
          <a:blip r:embed="rId1"/>
          <a:stretch/>
        </p:blipFill>
        <p:spPr>
          <a:xfrm>
            <a:off x="762120" y="1981080"/>
            <a:ext cx="3560760" cy="411480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Series - Custom Autom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648320" y="1484280"/>
            <a:ext cx="3595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line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-to-use key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, CSA &amp; CE 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a 4X Water-Tight Encl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8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643A-6640-40F3-A12F-4036F8526BD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Series - Custom Autom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Flex M-5 Series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-based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analog 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cards for direct pH, ORP, Conductivity/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20mA input &amp; 4-20mA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VDC Power Supply with optional 24 VDC (remote transmit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-in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2EDE-B8EF-4B97-B6BC-3D746228321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Series - Custom Autom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Flex M-5 Series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Relay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relay contacts (1 n.o. &amp; 4 form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alarm re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-in diagnostic to read current draw on r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 (op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le with Aquatrac’s proprietary Trackster 3 software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9036-E7C3-4FF8-9352-DA1BFED14D0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Series - Custom Autom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Flex M-10 Series Controll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-based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analog 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cards for direct pH, ORP, Conductivity/Temperature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20 mA input &amp; 4-20 mA outpu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VDC power supply with optional 24 VDC (remote transmit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-in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282-BFFF-434A-A030-D204B069824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Series - Custom Autom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Flex M-10 Series Controll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Relay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relay contacts (2 n.o. &amp; 8 form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alarm re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-in diagnostic to read current draw on r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  (op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le with Aquatrac’s proprietary Trackster 3 software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A89F-1B57-4750-95CA-2605FE194B3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3" name="Object 2"/>
          <p:cNvGraphicFramePr/>
          <p:nvPr/>
        </p:nvGraphicFramePr>
        <p:xfrm>
          <a:off x="0" y="533520"/>
          <a:ext cx="91440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5" name="Object 2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Object 2"/>
          <p:cNvGraphicFramePr/>
          <p:nvPr/>
        </p:nvGraphicFramePr>
        <p:xfrm>
          <a:off x="0" y="0"/>
          <a:ext cx="9144000" cy="739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Series - Custom Autom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d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Cycl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to Stroke (dual input card requ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to Volum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D492-B8FC-4191-8760-BF13D5C7D67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4"/>
          <p:cNvSpPr/>
          <p:nvPr/>
        </p:nvSpPr>
        <p:spPr>
          <a:xfrm>
            <a:off x="228600" y="213372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Micro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914400" y="28195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533520" y="2590920"/>
            <a:ext cx="6858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2 Relay Cooling Tower and Boiler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mmunication Options: Web Browser, 4-20mA outpu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n Conductivity, Dry Alarm Contact Re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457200" y="3733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304920" y="3581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lim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533520" y="41148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oling Tower Controller with dual bio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ptional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ptional pH and 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04920" y="5181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Multi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457200" y="57150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ultiple Cooling Towers, Boilers and Cust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INTRODUCTION – PRODUCT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5"/>
          <p:cNvSpPr/>
          <p:nvPr/>
        </p:nvSpPr>
        <p:spPr>
          <a:xfrm>
            <a:off x="3808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C Logo Alternate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Rectangle 32768" descr=""/>
          <p:cNvPicPr/>
          <p:nvPr/>
        </p:nvPicPr>
        <p:blipFill>
          <a:blip r:embed="rId1"/>
          <a:stretch/>
        </p:blipFill>
        <p:spPr>
          <a:xfrm>
            <a:off x="228600" y="1276200"/>
            <a:ext cx="8534520" cy="5407200"/>
          </a:xfrm>
          <a:prstGeom prst="rect">
            <a:avLst/>
          </a:prstGeom>
          <a:ln w="0">
            <a:noFill/>
          </a:ln>
        </p:spPr>
      </p:pic>
      <p:sp>
        <p:nvSpPr>
          <p:cNvPr id="775" name="TextBox 32769"/>
          <p:cNvSpPr/>
          <p:nvPr/>
        </p:nvSpPr>
        <p:spPr>
          <a:xfrm>
            <a:off x="6629400" y="198108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tique Olive Roman"/>
              </a:rPr>
              <a:t>*Pump turns on for 15 seconds for every 200Lbs. of Steam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69278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Series - Custom Autom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3F0C-883C-463A-B483-90CF6FAC5A1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8" name="Object 1026"/>
          <p:cNvGraphicFramePr/>
          <p:nvPr/>
        </p:nvGraphicFramePr>
        <p:xfrm>
          <a:off x="1143000" y="1447920"/>
          <a:ext cx="6705720" cy="4800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79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67057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Series - Custom Autom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CEE8-5234-4A46-96BB-254CB6BF7EF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33792"/>
          <p:cNvSpPr/>
          <p:nvPr/>
        </p:nvSpPr>
        <p:spPr>
          <a:xfrm>
            <a:off x="17193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Rectangle 33793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457200" y="304920"/>
            <a:ext cx="243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Flex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Rectangle 35840" descr=""/>
          <p:cNvPicPr/>
          <p:nvPr/>
        </p:nvPicPr>
        <p:blipFill>
          <a:blip r:embed="rId1"/>
          <a:stretch/>
        </p:blipFill>
        <p:spPr>
          <a:xfrm>
            <a:off x="88920" y="1219320"/>
            <a:ext cx="85215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lex &amp; Time Cyc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Shape 37890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590560" cy="252432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3530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: 11, Off: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d Cyc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Object 4" descr=""/>
          <p:cNvPicPr/>
          <p:nvPr/>
        </p:nvPicPr>
        <p:blipFill>
          <a:blip r:embed="rId2"/>
          <a:stretch/>
        </p:blipFill>
        <p:spPr>
          <a:xfrm>
            <a:off x="2819520" y="3962520"/>
            <a:ext cx="5443560" cy="2622600"/>
          </a:xfrm>
          <a:prstGeom prst="rect">
            <a:avLst/>
          </a:prstGeom>
          <a:ln w="0">
            <a:noFill/>
          </a:ln>
        </p:spPr>
      </p:pic>
      <p:sp>
        <p:nvSpPr>
          <p:cNvPr id="792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C5DB-0EAB-4D38-A38A-F67F5437E12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4"/>
          <p:cNvGrpSpPr/>
          <p:nvPr/>
        </p:nvGrpSpPr>
        <p:grpSpPr>
          <a:xfrm>
            <a:off x="0" y="0"/>
            <a:ext cx="9143640" cy="6095520"/>
            <a:chOff x="0" y="0"/>
            <a:chExt cx="9143640" cy="6095520"/>
          </a:xfrm>
        </p:grpSpPr>
        <p:sp>
          <p:nvSpPr>
            <p:cNvPr id="794" name="Rectangle 10243"/>
            <p:cNvSpPr/>
            <p:nvPr/>
          </p:nvSpPr>
          <p:spPr>
            <a:xfrm>
              <a:off x="20520" y="0"/>
              <a:ext cx="9123120" cy="6095520"/>
            </a:xfrm>
            <a:prstGeom prst="rect">
              <a:avLst/>
            </a:prstGeom>
            <a:solidFill>
              <a:srgbClr val="d0d0d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5" name="Object 3"/>
            <p:cNvGraphicFramePr/>
            <p:nvPr/>
          </p:nvGraphicFramePr>
          <p:xfrm>
            <a:off x="0" y="111960"/>
            <a:ext cx="9072360" cy="587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1960"/>
                      <a:ext cx="9072360" cy="587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7" name="Object 5"/>
          <p:cNvGraphicFramePr/>
          <p:nvPr/>
        </p:nvGraphicFramePr>
        <p:xfrm>
          <a:off x="457200" y="533520"/>
          <a:ext cx="80773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0773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102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5"/>
          <p:cNvSpPr/>
          <p:nvPr/>
        </p:nvSpPr>
        <p:spPr>
          <a:xfrm>
            <a:off x="4267080" y="16002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QUATR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205740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R FAMI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Level Unit for Simpl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Flex - Bleed Control, One Chemical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um / Moderate Level of Sophist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mflex, ProMtrac and M5 Multiflex 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or Multiple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flex M5 &amp; M10 Series - Mulitple Boilers and T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gis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 Solution for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7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AA76-4E88-4FCE-BDD3-21A87C3408D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5" descr="AEGIS3_B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48006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2"/>
          <p:cNvSpPr/>
          <p:nvPr/>
        </p:nvSpPr>
        <p:spPr>
          <a:xfrm>
            <a:off x="380988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Object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228600" y="1143000"/>
          <a:ext cx="8763120" cy="502776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1066680"/>
                <a:gridCol w="685800"/>
                <a:gridCol w="1067040"/>
                <a:gridCol w="1066680"/>
                <a:gridCol w="914400"/>
                <a:gridCol w="914400"/>
                <a:gridCol w="1219320"/>
              </a:tblGrid>
              <a:tr h="63648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og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ioci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im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c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aus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Oxid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ntich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u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ultiFl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te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 t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Configu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 t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Configu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 t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Configurab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l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l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i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Fal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Betw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EG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te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Eth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pl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 t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Configu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 t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Configu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 t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Configu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l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l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i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Fal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Betw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Mtr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2 pum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l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l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limFl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2 pum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icroFl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hib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Rectangle 6"/>
          <p:cNvSpPr/>
          <p:nvPr/>
        </p:nvSpPr>
        <p:spPr>
          <a:xfrm>
            <a:off x="2057400" y="-318960"/>
            <a:ext cx="44956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s &amp;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5" name="Object 2"/>
          <p:cNvGraphicFramePr/>
          <p:nvPr/>
        </p:nvGraphicFramePr>
        <p:xfrm>
          <a:off x="187200" y="457200"/>
          <a:ext cx="8956800" cy="58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457200"/>
                    <a:ext cx="895680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685800" y="1066680"/>
          <a:ext cx="7696080" cy="5410440"/>
        </p:xfrm>
        <a:graphic>
          <a:graphicData uri="http://schemas.openxmlformats.org/drawingml/2006/table">
            <a:tbl>
              <a:tblPr/>
              <a:tblGrid>
                <a:gridCol w="851040"/>
                <a:gridCol w="839520"/>
                <a:gridCol w="1052640"/>
                <a:gridCol w="990720"/>
                <a:gridCol w="990360"/>
                <a:gridCol w="914400"/>
                <a:gridCol w="838440"/>
                <a:gridCol w="1218960"/>
              </a:tblGrid>
              <a:tr h="6858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erif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ven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alcu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alcu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eed on p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tpo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y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um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idn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eed Limit Re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ultiFl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to Stro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EG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n 4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Configu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Mtr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Configurabl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xidant P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limFl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icroFl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8" name="Text Box 68"/>
          <p:cNvSpPr/>
          <p:nvPr/>
        </p:nvSpPr>
        <p:spPr>
          <a:xfrm>
            <a:off x="1905120" y="76212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0" y="-546840"/>
            <a:ext cx="8991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s &amp;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0" name="Object 2"/>
          <p:cNvGraphicFramePr/>
          <p:nvPr/>
        </p:nvGraphicFramePr>
        <p:xfrm>
          <a:off x="187200" y="457200"/>
          <a:ext cx="8956800" cy="58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457200"/>
                    <a:ext cx="895680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2" name="Object 2"/>
          <p:cNvGraphicFramePr/>
          <p:nvPr/>
        </p:nvGraphicFramePr>
        <p:xfrm>
          <a:off x="187200" y="457200"/>
          <a:ext cx="8956800" cy="58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457200"/>
                    <a:ext cx="895680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4" name=""/>
          <p:cNvGraphicFramePr/>
          <p:nvPr/>
        </p:nvGraphicFramePr>
        <p:xfrm>
          <a:off x="609480" y="1600200"/>
          <a:ext cx="8153640" cy="3693960"/>
        </p:xfrm>
        <a:graphic>
          <a:graphicData uri="http://schemas.openxmlformats.org/drawingml/2006/table">
            <a:tbl>
              <a:tblPr/>
              <a:tblGrid>
                <a:gridCol w="828720"/>
                <a:gridCol w="819360"/>
                <a:gridCol w="817560"/>
                <a:gridCol w="1023840"/>
                <a:gridCol w="1238040"/>
                <a:gridCol w="1324080"/>
                <a:gridCol w="703440"/>
                <a:gridCol w="1398600"/>
              </a:tblGrid>
              <a:tr h="131616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v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t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t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i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t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ON &amp; 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t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um mult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um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 a si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nk inven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ail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eed alarm 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ump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y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dj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ol. 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tro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ultiFl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@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30 seco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to Stro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pplic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EG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t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 seco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Configu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co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n 4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0" y="5684760"/>
            <a:ext cx="9144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Inver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Contact sets show ON when contact set closed. Inverted contact sets show ON when contact set is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Mirr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ontact sets show ON when mirrored Output is ON.  Contact sets may be both Inverted &amp; Mirr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phantom contact inputs, U to Z,  would be used for Mirro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a real contact set input is used, the actual input is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d to show differences between AEGIS &amp; MultiFlex contro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4"/>
          <p:cNvSpPr/>
          <p:nvPr/>
        </p:nvSpPr>
        <p:spPr>
          <a:xfrm>
            <a:off x="0" y="6858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8" name=""/>
          <p:cNvGraphicFramePr/>
          <p:nvPr/>
        </p:nvGraphicFramePr>
        <p:xfrm>
          <a:off x="152280" y="838080"/>
          <a:ext cx="8382240" cy="4210200"/>
        </p:xfrm>
        <a:graphic>
          <a:graphicData uri="http://schemas.openxmlformats.org/drawingml/2006/table">
            <a:tbl>
              <a:tblPr/>
              <a:tblGrid>
                <a:gridCol w="1265400"/>
                <a:gridCol w="1028520"/>
                <a:gridCol w="1501920"/>
                <a:gridCol w="870120"/>
                <a:gridCol w="869760"/>
                <a:gridCol w="790560"/>
                <a:gridCol w="1027080"/>
                <a:gridCol w="1028880"/>
              </a:tblGrid>
              <a:tr h="154800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xte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o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ON/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od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C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e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ie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lo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ump &am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olen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se f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la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D 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rack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erpr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ultiFl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va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Li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Pow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SC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protoc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4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20 charac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equ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Track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7 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lo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Control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EG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5V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oc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od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Point-to-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Protoc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odem Brow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2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6 Charac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W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2 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lo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Seria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Locked at time of mf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3"/>
          <p:cNvSpPr/>
          <p:nvPr/>
        </p:nvSpPr>
        <p:spPr>
          <a:xfrm>
            <a:off x="1523880" y="5533920"/>
            <a:ext cx="670572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rdwar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oftware Comparis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elected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d to show differences between AEGIS &amp; MultiFlex contro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controllers include IP67/NEMA 4X rated enclosures, backlit LCD display &amp; 120/230VAC line voltage selection swi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69"/>
          <p:cNvSpPr/>
          <p:nvPr/>
        </p:nvSpPr>
        <p:spPr>
          <a:xfrm>
            <a:off x="152280" y="30492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Box 1"/>
          <p:cNvSpPr/>
          <p:nvPr/>
        </p:nvSpPr>
        <p:spPr>
          <a:xfrm>
            <a:off x="768600" y="1219320"/>
            <a:ext cx="6432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should I buy an Aegis Contro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nswer this question you must understand th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4" descr="AEGIS3_B"/>
          <p:cNvPicPr/>
          <p:nvPr/>
        </p:nvPicPr>
        <p:blipFill>
          <a:blip r:embed="rId1"/>
          <a:stretch/>
        </p:blipFill>
        <p:spPr>
          <a:xfrm>
            <a:off x="3962520" y="2438280"/>
            <a:ext cx="48006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Rectangle 15361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873600" cy="373392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6"/>
          <p:cNvSpPr/>
          <p:nvPr/>
        </p:nvSpPr>
        <p:spPr>
          <a:xfrm>
            <a:off x="228600" y="609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FLEX CONTROLLER Entry Level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9280" y="1484280"/>
            <a:ext cx="37753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Keypad - Easy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– Easy to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losure - NEMA 4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9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B903-6777-41EE-A4BC-D19BE89800E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Object 1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70572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Box 16386"/>
          <p:cNvSpPr/>
          <p:nvPr/>
        </p:nvSpPr>
        <p:spPr>
          <a:xfrm>
            <a:off x="533520" y="29718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FLEX CONTROLLER - Entry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Cooling Tower or Boiler Blowdow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processor-Base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/Control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ivity Sensor for Boilers to 250 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Conductivity/ Thermal Flow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6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7141-6192-4B35-B35B-9D218C7A168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FLEX CONTROLLER - Entry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wdown Solenoid or Motorized Ball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etpoint Contro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or Chemical Feed Pump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ed &amp; Feed, Bleed Then Feed, Flow and Feed, Percen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Meter Propor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7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6DC8-0751-4D68-B516-AC0EDC02ABC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4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537048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0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FLEX BOILER CONTROLLER - </a:t>
            </a:r>
            <a:r>
              <a:rPr b="1" lang="en-US" sz="2400" spc="-1" strike="noStrike">
                <a:solidFill>
                  <a:srgbClr val="000000"/>
                </a:solidFill>
                <a:latin typeface="Antique Olive Roman"/>
              </a:rPr>
              <a:t>Entry Level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35B6-5575-42B5-AE38-64058962EDB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19457" descr=""/>
          <p:cNvPicPr/>
          <p:nvPr/>
        </p:nvPicPr>
        <p:blipFill>
          <a:blip r:embed="rId1"/>
          <a:stretch/>
        </p:blipFill>
        <p:spPr>
          <a:xfrm>
            <a:off x="231840" y="990720"/>
            <a:ext cx="8150040" cy="56196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0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FLEX BOILER CONTROLLER - </a:t>
            </a:r>
            <a:r>
              <a:rPr b="1" lang="en-US" sz="2400" spc="-1" strike="noStrike">
                <a:solidFill>
                  <a:srgbClr val="000000"/>
                </a:solidFill>
                <a:latin typeface="Antique Olive Roman"/>
              </a:rPr>
              <a:t>Entry Level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2E4B-223C-4534-86E3-FBDFD434B77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9:29:02Z</dcterms:created>
  <dc:creator>John Jones</dc:creator>
  <dc:description/>
  <dc:language>en-US</dc:language>
  <cp:lastModifiedBy>Janet Berbach</cp:lastModifiedBy>
  <cp:lastPrinted>1998-03-31T18:09:10Z</cp:lastPrinted>
  <dcterms:modified xsi:type="dcterms:W3CDTF">2009-04-22T22:09:05Z</dcterms:modified>
  <cp:revision>230</cp:revision>
  <dc:subject>AquaTrac Product Overview</dc:subject>
  <dc:title>Product Overview</dc:title>
</cp:coreProperties>
</file>