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6.jpeg" ContentType="image/jpeg"/>
  <Override PartName="/ppt/media/image19.png" ContentType="image/png"/>
  <Override PartName="/ppt/media/image24.wmf" ContentType="image/x-wmf"/>
  <Override PartName="/ppt/media/image23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51D-C978-4937-8F8B-BC06AFBE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9B2-6828-4661-8034-F95198B9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E330-E4F0-4756-BDB0-D59322C4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6E4-2152-4FE3-A561-43A451D1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6BC-166A-4078-A613-982BB96D3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E0D9-C958-4900-8610-E2D702B7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5DD2-450B-48F7-BE6E-5DABAB39F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A15A-4536-44C3-B4D8-FDFD10C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80C7-90F2-4286-94CD-EC4B887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BBA7-ECB4-4DB0-AE14-1962BAA2C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EF0F-643A-4047-AD34-E08C7E6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53D7-66D2-4988-B4BE-E0814004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7F73-F82E-49AC-A3BF-B878652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9BD0-159E-413E-82B2-8DD876E1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D0B4-7D09-4E39-8501-7CBD6A72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E4A7-20B3-4B9E-8AEF-C27E8A97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7649-60EB-4D55-9611-E995883F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7D9B-24B5-4D77-A9A7-8F10AC21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422-34AB-4AC9-B721-37AC14B0FA8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crison.com/pages/pro_volfed_02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crison.com/pages/pro_ww_02.html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acrison.com/pages/pro_ww_05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M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lym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914400" y="3886200"/>
            <a:ext cx="716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Training – April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by Ed Th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tune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blend, Komax, Semblex, Dyna-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bidding against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t settled on produc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&amp;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tune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www.neptune1.com/pumps/images/poly1.jpg"/>
          <p:cNvPicPr/>
          <p:nvPr/>
        </p:nvPicPr>
        <p:blipFill>
          <a:blip r:embed="rId1"/>
          <a:stretch/>
        </p:blipFill>
        <p:spPr>
          <a:xfrm>
            <a:off x="0" y="1371600"/>
            <a:ext cx="2346480" cy="289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http://www.neptune1.com/pumps/images/nimbleskid.jpg"/>
          <p:cNvPicPr/>
          <p:nvPr/>
        </p:nvPicPr>
        <p:blipFill>
          <a:blip r:embed="rId2"/>
          <a:stretch/>
        </p:blipFill>
        <p:spPr>
          <a:xfrm>
            <a:off x="4724280" y="1371600"/>
            <a:ext cx="1752840" cy="262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ynaBLEND L6-P"/>
          <p:cNvPicPr/>
          <p:nvPr/>
        </p:nvPicPr>
        <p:blipFill>
          <a:blip r:embed="rId3"/>
          <a:stretch/>
        </p:blipFill>
        <p:spPr>
          <a:xfrm>
            <a:off x="2438280" y="1905120"/>
            <a:ext cx="2133720" cy="4190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dynaJET feeder skid with BU Hopper and Dust Collection System"/>
          <p:cNvPicPr/>
          <p:nvPr/>
        </p:nvPicPr>
        <p:blipFill>
          <a:blip r:embed="rId4"/>
          <a:stretch/>
        </p:blipFill>
        <p:spPr>
          <a:xfrm>
            <a:off x="6095880" y="3200400"/>
            <a:ext cx="2622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fl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t settled on produc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ing to play in municip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ong rep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able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pplic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fl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http://www.chemflow.com/web/products.nsf/70e844e36c0d5b21882568270069609d/08969213cfe12c26882568270063fb73/Picture/0.7C?OpenElement&amp;FieldElemFormat=gif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11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http://www.chemflow.com/web/cfhome2.nsf/Dry.jpg?OpenImageResource"/>
          <p:cNvPicPr/>
          <p:nvPr/>
        </p:nvPicPr>
        <p:blipFill>
          <a:blip r:embed="rId2"/>
          <a:stretch/>
        </p:blipFill>
        <p:spPr>
          <a:xfrm>
            <a:off x="4876920" y="1676520"/>
            <a:ext cx="3124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che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pap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bid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company on mar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che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Norchem Industries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 – Hummix – Enpro – (New Dynable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in all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 rep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rry pick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ball bid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ynablend establishing rep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pro has original PB designer on retainer – New pa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o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914400" y="1600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focus o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hort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1600200" y="228600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ret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685800" y="1600200"/>
            <a:ext cx="746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close projects to develop installa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“try &amp; bu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polymer &amp; product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igh market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– Where does it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914400" y="228600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pplications for present size system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r Applications up to about 5 M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rotary drum thicken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gravity belt thickener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1 meter belt pres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Remov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er Sludge thick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ing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's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914400" y="1600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1828800" y="2362320"/>
            <a:ext cx="5715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strategy and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o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M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– Where does it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914400" y="228600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pplications for present size system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r Applications up to about 5 M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rotary drum thicken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gravity belt thickener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1 meter belt pres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Remov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er Sludge thick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ing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– Where does it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914400" y="22860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pplications for present size system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r Applications up to about 5 M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sand Filters – Continuous backwashing sand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ined Plate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Filter po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Remov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er Sludge thick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Centrifuges (refinery oily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able Water make-up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g Industry waste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pb"/>
          <p:cNvPicPr/>
          <p:nvPr/>
        </p:nvPicPr>
        <p:blipFill>
          <a:blip r:embed="rId1"/>
          <a:stretch/>
        </p:blipFill>
        <p:spPr>
          <a:xfrm>
            <a:off x="1143000" y="1676520"/>
            <a:ext cx="2451240" cy="39988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PB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4572000" y="16002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difficult to access for rep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pump replacement – usually ends up as outboard pump when repla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4572000" y="3048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 chamber must be disassembled to clean check va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4572000" y="41911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 Drive &amp; Mechanical Seal failures can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572000" y="51055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MI pump with n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PB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4572000" y="19810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– the ProMix has a true 3 Zone mixing chamber to give a tapered mixing energy cu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4648320" y="3657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 chamber must be disassembled to clean check va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pb mixer copy1"/>
          <p:cNvPicPr/>
          <p:nvPr/>
        </p:nvPicPr>
        <p:blipFill>
          <a:blip r:embed="rId1"/>
          <a:stretch/>
        </p:blipFill>
        <p:spPr>
          <a:xfrm rot="6601200">
            <a:off x="546480" y="2094480"/>
            <a:ext cx="372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stinct mixing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mixing blades to deliver prope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Blade delivers high shear at precise point of polymer injection, creating immediate dispersion before agglomeration takes place. Induced back mixing eliminates short circ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8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268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Curved Down Arrow 30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Curved Down Arrow 31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Curved Down Arrow 32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Curved Right Arrow 33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Curved Up Arrow 34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Curved Right Arrow 35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ircular Arrow 36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Circular Arrow 37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Induces a vortex and draws solution down from zone 1 and forces solution to cylinder sides and into zone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Zone – This zone gently blends the active polymer solution before it exits the cha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urved Down Arrow 4"/>
          <p:cNvSpPr/>
          <p:nvPr/>
        </p:nvSpPr>
        <p:spPr>
          <a:xfrm>
            <a:off x="2514600" y="2971800"/>
            <a:ext cx="609480" cy="304920"/>
          </a:xfrm>
          <a:custGeom>
            <a:avLst/>
            <a:gdLst>
              <a:gd name="textAreaLeft" fmla="*/ 123840 w 609480"/>
              <a:gd name="textAreaRight" fmla="*/ 44784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urved Down Arrow 5"/>
          <p:cNvSpPr/>
          <p:nvPr/>
        </p:nvSpPr>
        <p:spPr>
          <a:xfrm rot="10401600">
            <a:off x="2380680" y="3355200"/>
            <a:ext cx="679320" cy="297000"/>
          </a:xfrm>
          <a:custGeom>
            <a:avLst/>
            <a:gdLst>
              <a:gd name="textAreaLeft" fmla="*/ 141840 w 679320"/>
              <a:gd name="textAreaRight" fmla="*/ 500400 w 67932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1" hR="21600" stAng="10800000" swAng="5400000"/>
                <a:lnTo>
                  <a:pt x="11390" y="0"/>
                </a:lnTo>
                <a:arcTo wR="9031" hR="21600" stAng="-5400000" swAng="3498070"/>
                <a:lnTo>
                  <a:pt x="21313" y="16200"/>
                </a:lnTo>
                <a:lnTo>
                  <a:pt x="19241" y="21600"/>
                </a:lnTo>
                <a:lnTo>
                  <a:pt x="16594" y="16200"/>
                </a:lnTo>
                <a:lnTo>
                  <a:pt x="17774" y="16200"/>
                </a:lnTo>
                <a:arcTo wR="9031" hR="21600" stAng="-1901930" swAng="-3308916"/>
                <a:lnTo>
                  <a:pt x="10210" y="185"/>
                </a:lnTo>
                <a:arcTo wR="9031" hR="21600" stAng="-5589154" swAng="-5210846"/>
                <a:close/>
              </a:path>
              <a:path fill="darkenLess" w="21600" h="21600">
                <a:moveTo>
                  <a:pt x="0" y="21600"/>
                </a:moveTo>
                <a:arcTo wR="9031" hR="21600" stAng="10800000" swAng="5400000"/>
                <a:lnTo>
                  <a:pt x="9031" y="0"/>
                </a:lnTo>
                <a:arcTo wR="9031" hR="21600" stAng="-5400000" swAng="189154"/>
                <a:lnTo>
                  <a:pt x="10210" y="185"/>
                </a:lnTo>
                <a:arcTo wR="9031" hR="21600" stAng="-5589154" swAng="-5210846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3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283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Curved Down Arrow 12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Curved Down Arrow 13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Curved Down Arrow 14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Curved Right Arrow 15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Curved Up Arrow 16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Curved Right Arrow 17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Circular Arrow 20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Circular Arrow 21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429000" y="6095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748240" cy="3990960"/>
          </a:xfrm>
          <a:prstGeom prst="rect">
            <a:avLst/>
          </a:prstGeom>
          <a:ln w="0">
            <a:noFill/>
          </a:ln>
        </p:spPr>
      </p:pic>
      <p:sp>
        <p:nvSpPr>
          <p:cNvPr id="295" name="Right Arrow 16"/>
          <p:cNvSpPr/>
          <p:nvPr/>
        </p:nvSpPr>
        <p:spPr>
          <a:xfrm>
            <a:off x="2438280" y="320040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17"/>
          <p:cNvSpPr/>
          <p:nvPr/>
        </p:nvSpPr>
        <p:spPr>
          <a:xfrm>
            <a:off x="2438280" y="396252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ight Arrow 18"/>
          <p:cNvSpPr/>
          <p:nvPr/>
        </p:nvSpPr>
        <p:spPr>
          <a:xfrm>
            <a:off x="2438280" y="487692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9"/>
          <p:cNvSpPr/>
          <p:nvPr/>
        </p:nvSpPr>
        <p:spPr>
          <a:xfrm>
            <a:off x="533520" y="2895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hear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533520" y="3657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Inducing 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1"/>
          <p:cNvSpPr/>
          <p:nvPr/>
        </p:nvSpPr>
        <p:spPr>
          <a:xfrm>
            <a:off x="533520" y="4572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ight Arrow 22"/>
          <p:cNvSpPr/>
          <p:nvPr/>
        </p:nvSpPr>
        <p:spPr>
          <a:xfrm rot="10800000">
            <a:off x="4876560" y="5105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"/>
          <p:cNvSpPr/>
          <p:nvPr/>
        </p:nvSpPr>
        <p:spPr>
          <a:xfrm>
            <a:off x="6019920" y="4724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 Solution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24"/>
          <p:cNvSpPr/>
          <p:nvPr/>
        </p:nvSpPr>
        <p:spPr>
          <a:xfrm rot="10800000">
            <a:off x="5105160" y="1905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5"/>
          <p:cNvSpPr/>
          <p:nvPr/>
        </p:nvSpPr>
        <p:spPr>
          <a:xfrm>
            <a:off x="6019920" y="22860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upled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Sealed B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M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4572000" y="167652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mal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ck mixing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through-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2"/>
          <p:cNvSpPr/>
          <p:nvPr/>
        </p:nvSpPr>
        <p:spPr>
          <a:xfrm>
            <a:off x="4572000" y="32004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ane impeller is not enough mixing energy or shear for many 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PolyBlend M-Lo Series no background"/>
          <p:cNvPicPr/>
          <p:nvPr/>
        </p:nvPicPr>
        <p:blipFill>
          <a:blip r:embed="rId1"/>
          <a:srcRect l="16779" t="4288" r="2506" b="7765"/>
          <a:stretch/>
        </p:blipFill>
        <p:spPr>
          <a:xfrm>
            <a:off x="838080" y="2362320"/>
            <a:ext cx="3200400" cy="29667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3"/>
          <p:cNvSpPr/>
          <p:nvPr/>
        </p:nvSpPr>
        <p:spPr>
          <a:xfrm>
            <a:off x="4572000" y="45720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wall mount or table 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685800" y="5410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M Series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4572000" y="1828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mal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ck mixing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through-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4572000" y="33526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ane impeller is not enough mixing energy or shear for many 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M Series mixer illu"/>
          <p:cNvPicPr/>
          <p:nvPr/>
        </p:nvPicPr>
        <p:blipFill>
          <a:blip r:embed="rId1"/>
          <a:srcRect l="15335" t="0" r="21112" b="0"/>
          <a:stretch/>
        </p:blipFill>
        <p:spPr>
          <a:xfrm>
            <a:off x="609480" y="1828800"/>
            <a:ext cx="3657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polymer feed market 30-35 million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co had 10-1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blend 6-7 million (Grow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maller players 15-2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-400 polymer projects bidding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5-1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,500 wastewater treatment plants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6,000 drinking water systems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– Indachem ~ 300k – 60/40 municipal/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&amp;T 300-400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1295280" y="5715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3657600" y="16002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aining Market share from St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90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2"/>
          <p:cNvSpPr/>
          <p:nvPr/>
        </p:nvSpPr>
        <p:spPr>
          <a:xfrm>
            <a:off x="4191120" y="25146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owned and manufactured under the Neptune roof – along with Komax, Semblex, and Jet W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4191120" y="4114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reps don’t understand polymer activation technology, but have made inroads bidding Stranco specs over th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1295280" y="5715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457200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and pressure fluctuations have a direct effect on the energy available for polymer ac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2"/>
          <p:cNvSpPr/>
          <p:nvPr/>
        </p:nvSpPr>
        <p:spPr>
          <a:xfrm>
            <a:off x="4572000" y="28954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er pumps are essential in most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90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2"/>
          <p:cNvSpPr/>
          <p:nvPr/>
        </p:nvSpPr>
        <p:spPr>
          <a:xfrm>
            <a:off x="4572000" y="388620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concentric chamber to produce a centrifuge effect to try and separate undispersed agglomerates  back into the incoming mixing water….it’s too late to correct at that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0"/>
          <p:cNvSpPr/>
          <p:nvPr/>
        </p:nvSpPr>
        <p:spPr>
          <a:xfrm>
            <a:off x="1295280" y="563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4191120" y="213372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primarily in the municipal market sold on price alone, usually walk away in cases of performance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736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2"/>
          <p:cNvSpPr/>
          <p:nvPr/>
        </p:nvSpPr>
        <p:spPr>
          <a:xfrm>
            <a:off x="4114800" y="41148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ffort to develop a very strong industrial rep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762120" y="1542600"/>
            <a:ext cx="80010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li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120 VAC. 60 Hz, 1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max 100 w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ntro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Voltage free contact + 4-20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mixing cha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1.9 gall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at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3/4" FN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polymer solu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1/2" tu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 dosing pump typ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Peristaltic (Tube) 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&lt; 70dB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Backpressure, polymer solu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running temper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0 to100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(empty chamber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iameter of the pump tu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05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Model Numbe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Numbers Desig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533520" y="243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x        120              0.6                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380880" y="40384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Di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2590920" y="4038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H – Neat Poly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4952880" y="403848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ubing/Perist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  -  Diaphra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  -  Gear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  -   Progressive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ight Arrow 17"/>
          <p:cNvSpPr/>
          <p:nvPr/>
        </p:nvSpPr>
        <p:spPr>
          <a:xfrm rot="16200000">
            <a:off x="165816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ight Arrow 18"/>
          <p:cNvSpPr/>
          <p:nvPr/>
        </p:nvSpPr>
        <p:spPr>
          <a:xfrm rot="16200000">
            <a:off x="455364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Arrow 19"/>
          <p:cNvSpPr/>
          <p:nvPr/>
        </p:nvSpPr>
        <p:spPr>
          <a:xfrm rot="16200000">
            <a:off x="302976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Model Numbe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685800" y="1676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Numbers Designation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th 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609480" y="3124080"/>
            <a:ext cx="8001000" cy="3523320"/>
            <a:chOff x="609480" y="3124080"/>
            <a:chExt cx="8001000" cy="3523320"/>
          </a:xfrm>
        </p:grpSpPr>
        <p:sp>
          <p:nvSpPr>
            <p:cNvPr id="356" name="TextBox 11"/>
            <p:cNvSpPr/>
            <p:nvPr/>
          </p:nvSpPr>
          <p:spPr>
            <a:xfrm>
              <a:off x="609480" y="31240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Mix        120      X2        0.6                 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2"/>
            <p:cNvSpPr/>
            <p:nvPr/>
          </p:nvSpPr>
          <p:spPr>
            <a:xfrm>
              <a:off x="609480" y="472392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ary Dilu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15"/>
            <p:cNvSpPr/>
            <p:nvPr/>
          </p:nvSpPr>
          <p:spPr>
            <a:xfrm>
              <a:off x="3047760" y="4800240"/>
              <a:ext cx="1981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mp C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PH – Neat Poly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16"/>
            <p:cNvSpPr/>
            <p:nvPr/>
          </p:nvSpPr>
          <p:spPr>
            <a:xfrm>
              <a:off x="5410080" y="4723920"/>
              <a:ext cx="32004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mp 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P – Tubing/Peristal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   -  Diaphrag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   -  Gear P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   -   Progressive Ca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ight Arrow 17"/>
            <p:cNvSpPr/>
            <p:nvPr/>
          </p:nvSpPr>
          <p:spPr>
            <a:xfrm rot="16200000">
              <a:off x="173412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18"/>
            <p:cNvSpPr/>
            <p:nvPr/>
          </p:nvSpPr>
          <p:spPr>
            <a:xfrm rot="16200000">
              <a:off x="501084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19"/>
            <p:cNvSpPr/>
            <p:nvPr/>
          </p:nvSpPr>
          <p:spPr>
            <a:xfrm rot="16200000">
              <a:off x="348660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ight Arrow 13"/>
          <p:cNvSpPr/>
          <p:nvPr/>
        </p:nvSpPr>
        <p:spPr>
          <a:xfrm rot="5400000">
            <a:off x="2572200" y="2380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3505320" y="213372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2 - Means unit has a secondary rotometer (Same size as primary) and static mixer for post di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-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914400" y="22860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Unit controls will be a local speed control for the pump and a the ability to accept a 4-20ma signal to vary pump spe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914400" y="34290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 solution output strength varies with the speed – all rotometer adjustments are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914400" y="43434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ntrol is the same as the “A” controls on the Polyblend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-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62120" y="2133720"/>
          <a:ext cx="7619760" cy="4182840"/>
        </p:xfrm>
        <a:graphic>
          <a:graphicData uri="http://schemas.openxmlformats.org/drawingml/2006/table">
            <a:tbl>
              <a:tblPr/>
              <a:tblGrid>
                <a:gridCol w="1461960"/>
                <a:gridCol w="2041560"/>
                <a:gridCol w="2014560"/>
                <a:gridCol w="2101680"/>
              </a:tblGrid>
              <a:tr h="380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y Rotometer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ary Rotometer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staltic Pump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30 – 0.16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30 - 0.3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60 - 0.3-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60X2 - 0.3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 - 0.6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X2 - 0.6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X2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 - 2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X2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X2 - 2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The Fu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685800" y="1676520"/>
            <a:ext cx="548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Contro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integration of ProMinent  P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r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al Fe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Line of  Access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ing Sizing  and Selec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s &amp; Case Hi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/Stranco/W&amp;T Poly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b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Wet (Dyna-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c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-5181840" y="2743200"/>
            <a:ext cx="70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ProMix Polymer Fe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fficiency mixing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istinct mixing zones – consistent tapered mixing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es on pressure only for motive force to deliver mechanically activated poly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esign for easy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e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phragm models offer the unique features of ProMinent p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injection check valve with eas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online or as make-dow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delivery of activated polyme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Polymer_unit.jpg"/>
          <p:cNvPicPr/>
          <p:nvPr/>
        </p:nvPicPr>
        <p:blipFill>
          <a:blip r:embed="rId1"/>
          <a:stretch/>
        </p:blipFill>
        <p:spPr>
          <a:xfrm>
            <a:off x="5410080" y="1523880"/>
            <a:ext cx="3098880" cy="46483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5"/>
          <p:cNvSpPr/>
          <p:nvPr/>
        </p:nvSpPr>
        <p:spPr>
          <a:xfrm>
            <a:off x="685800" y="16002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Sell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-5181840" y="2743200"/>
            <a:ext cx="70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ProMix Polymer Fe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Head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Polymer_unit.jpg"/>
          <p:cNvPicPr/>
          <p:nvPr/>
        </p:nvPicPr>
        <p:blipFill>
          <a:blip r:embed="rId1"/>
          <a:stretch/>
        </p:blipFill>
        <p:spPr>
          <a:xfrm>
            <a:off x="4800600" y="15238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bl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lea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of Ke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pping on Submittals, Deli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applic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Dis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PolyBlend M-Lo Series liquid polymer feed system"/>
          <p:cNvPicPr/>
          <p:nvPr/>
        </p:nvPicPr>
        <p:blipFill>
          <a:blip r:embed="rId1"/>
          <a:stretch/>
        </p:blipFill>
        <p:spPr>
          <a:xfrm>
            <a:off x="6400800" y="4114800"/>
            <a:ext cx="2189160" cy="205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PolyBlend PB Series - most popular liquid polymer feeder ever offered"/>
          <p:cNvPicPr/>
          <p:nvPr/>
        </p:nvPicPr>
        <p:blipFill>
          <a:blip r:embed="rId2"/>
          <a:stretch/>
        </p:blipFill>
        <p:spPr>
          <a:xfrm>
            <a:off x="7086600" y="1600200"/>
            <a:ext cx="1600200" cy="2255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ryrig"/>
          <p:cNvPicPr/>
          <p:nvPr/>
        </p:nvPicPr>
        <p:blipFill>
          <a:blip r:embed="rId3"/>
          <a:stretch/>
        </p:blipFill>
        <p:spPr>
          <a:xfrm>
            <a:off x="457200" y="251460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4343400" y="1905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lymer &amp; Dry f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ry fe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reputation in engineer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lymer &amp; Dry f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ry fe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reputation in engineer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Model 105 Volumetric Fee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2666880" cy="2284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acrison.com/im/th_m5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371600"/>
            <a:ext cx="2438280" cy="3475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www.acrison.com/im/th_m53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886200"/>
            <a:ext cx="25146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05:16Z</dcterms:created>
  <dc:creator>Ed Thomas</dc:creator>
  <dc:description/>
  <dc:language>en-US</dc:language>
  <cp:lastModifiedBy>Janet Berbach</cp:lastModifiedBy>
  <dcterms:modified xsi:type="dcterms:W3CDTF">2009-04-25T18:28:07Z</dcterms:modified>
  <cp:revision>137</cp:revision>
  <dc:subject>Understanding Polymer &amp; Activation</dc:subject>
  <dc:title>ProMinent ProMix Polymer System</dc:title>
</cp:coreProperties>
</file>