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0997-4EB6-46A7-8FC9-DB3D5AB95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FF0F-CE88-4D99-9100-25B4486D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3ED4-3386-48C5-A233-077CA8D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3880-A177-4A75-8ADF-0B4C2A2A5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B764-6A7B-418C-A74F-7A0C7B84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1016-066A-4370-83EA-1BF1C1E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078C-3096-4367-9870-84C316C6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37B1-FA2D-411E-8FBC-B68AB03F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BE5C-8E7E-4F77-B3B4-F1558884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8A94-8FB1-4411-B014-BFA47D6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DEE8-D41A-4A93-9821-E82108D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C992-13A9-4D62-96C3-B7A5648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5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08.05.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34D-6038-4BA6-8C2F-FD311DEC5838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59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12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58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7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9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1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2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3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4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5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6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7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8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9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30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31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32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3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4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5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6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7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8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9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40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41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42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3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4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5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6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7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8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9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0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1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2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3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4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5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6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6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3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Minent Ammonia Analy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3280" y="1484280"/>
            <a:ext cx="360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 to 20 ppm NH</a:t>
            </a:r>
            <a:r>
              <a:rPr b="1" lang="de-DE" sz="2000" spc="-1" strike="noStrike" baseline="-4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entiometric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s-permeabl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ld as system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herne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abl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oling towers/ch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trific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8040" y="1557360"/>
            <a:ext cx="3948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nd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less on-line monitoring of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oint calibration of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DA interface through 4-20 mA outputs or optional Mod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 driven inputs for measurements and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 capability on ammonia excu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ging and Trackster technolog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704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number 7746330 for complete ammoni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sensor part number 1035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590920"/>
          <a:ext cx="77724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Ammonia (NH3)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19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1:48:39Z</dcterms:created>
  <dc:creator>winkler</dc:creator>
  <dc:description/>
  <dc:language>en-US</dc:language>
  <cp:lastModifiedBy>None None</cp:lastModifiedBy>
  <dcterms:modified xsi:type="dcterms:W3CDTF">2009-07-31T17:42:13Z</dcterms:modified>
  <cp:revision>97</cp:revision>
  <dc:subject/>
  <dc:title>PowerPoint-Präsentation</dc:title>
</cp:coreProperties>
</file>