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6.wmf" ContentType="image/x-wmf"/>
  <Override PartName="/ppt/media/image19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8B2A-1107-4C86-86E3-4F5DA05EC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EA22-F991-4939-88C8-6C1529FD4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838E-E522-4B82-B4F1-040415CE4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frequency removes the need for 4-20mA pump control. Still used occasionally for monitoring &amp; legacy controls. Rarely you’ll see a 4-20mA tower blowdown valve. Don’t do a proportional valve boiler blow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o Manual to get the loop running then switch to Auto to operate. The controller remembers the setpoints in both modes. If you are controlling a pump or valve, use Manual &amp; 0% to ensure full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lect Auto, the page displays 4mA &amp; 20mA setpoints and you can set which sensor A..N you wish to use for loop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 &amp; Span are keypad adjus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owswitch interlock is not just a control utility, it’s also a way to flag an automation system that sample flow is OFF &amp; the sensor value no longer represents the bulk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loop output is loop powered. This method has two benefits, The current loop is DC isolated &amp; the controller can alarm on an open l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till encounter ground loops but it’s not caused by 4-20mA card which is optically isolated from the controller. But it’s still your problem to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ACC1-D609-4975-8D7C-1904EED8A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age shows you your current Access Level in the Status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D users can only use passwords comprised of CAPITAL letters to keep login scrolling within patience lim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er users cannot include HTML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current user can view &amp; modify his or her UserID &amp; password or you could read the slide text boxes to give your presentation immedi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dmin user cannot change her/his UserID. There is only one admin per controller &amp; only they can set other users Access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 invalid passwords lock the controller out for ALL users until 7:00 AM.  Bypass the lock-out by turning the control ON/OFF, unplug-Plug-in on the assumption that if you are on-site you are a legitimate u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433E-1961-4891-AD71-60CD07342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N/OFF relay controls and 4 variable frequency pump contr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er includes an AJAX powered real time view that auto-updates every 2 seconds. No more REFRESH button push to upd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ultiFlex has up to 14 Analog sensor inputs and up to 12 Water Meter/Contact Set/Flowswitch inputs. An Aegis has 7 Analog sensor inputs and 8 Water Meter/Contact Set/Flowswitch inputs. The extra 6 Analog sensor inputs and 4 Meter/Contact inputs are available as ‘Phantom’ inputs used for logging Inventory, ppm, manual entry and meter summ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driver cards are interchangeable between Aegis &amp; MultiFlex. They’re still both Plug &amp; 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egis carefully limits user options to those applicable with the selected sensor and control mode. The power &amp; flexibility are there when you need them but concealed on simple, common contr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verify, calculated ppm, inventory are standard. Volume copying, Output mirroring, contact inverting and sequential contact set controls add PLC type flexi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kster’s still used for reporting but all command &amp; control requires only a browser, even if you are modem 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controls report pumped volume. Setpoints &amp; Limits are simpler; usage tracking eas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A6DB-ACEC-46DC-AD2A-058CE2444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ntom inputs may be used to log user test values. Once logged they are used identically to sensor that change in real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‘Keypress Log’ time stamps the last 25 entries including the entry of manual to test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using these manual values in subsequent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1822-6487-4BA4-B8B5-84364FB8E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‘A’ is hardwired as a conductivity sensor, Input ‘B’ as a temperature sensor and Input ‘G’ as a 4-20mA in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ntrollers measure conductivity &amp; all but boiler blowdown have temperature compensation. This is the lowest cost way of delivering these sensor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-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be single or dual sensor cards and/or single/dual 4-20mA output c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s may b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Cond. Tem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ORP-pH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Boiler Cond,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4-20mA input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Corrosion Rate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4-20mA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plug a card in, the controller correctly configures the input for the sensor type. Some cards have selection/range jumpers, read by the control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remove or change a sensor card &amp; the sensor(s) on the previous card were used for control or compensation, the controller removes the unavailable sen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cards may be used on both MultiFlex &amp; Aegis controllers without modification. Aegis controllers don’t recognize MultiFlex Rate-Stroke c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OFF. Remove or socket a new card. Power ON &amp; you’re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DCEE-9984-48D0-90A2-34E3F546B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user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tpoints, calibrate, prime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gu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dify feed modes, pump type, control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ystem settings, units, IP, View-Config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ogged in users can view everything. If you attempt to modify above your permission level you get advice telling you the required permission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can always view the controller serial number and any active alarms.  The default passwords are the same as the MultiF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logged in a user can change their password &amp; user id. The default permissions – access levels are displayed in thi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dmin user can change any user’s permission level but cannot view their password. Important, since activity is logged by user 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other Aquatrac controllers, if your support controller’s running the password reset firmware, you can modify your S/N to match the end-users S/N to generate a Reset Password. Logon with to reset Password to return all passwords to the factory defa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B96C-8DD1-4F10-95CD-F67644BCF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alibrate a sensor the controller adjusts the sensor OFFSET or GAIN to make the measured millivolt level display your calibration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select a sensor link, you’ll view the Diagnostic page and you’ll be able to see the separation between the current sensor offset &amp; gain and the factory defa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ensors but 4-20mA inputs are single point calibrated; Conductivity calibration modifies GAIN. Sensors like pH, ORP, Temperature, modify OFFS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flags you on alarms &amp; calibrat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roller logs sensor MIN.MAX &amp; AVERAGE. Range within the log period varies with both sensor type &amp; the state of the control cycle…. Conductivity will fall when the bleed’s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varies with sensor type. Non-boiler conductivities are always thermally compensated. pH is seldom thermally compensated since the effect on typical temperature range is insignific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Compensation may be None, Corrosion, Calculate ppm, Rate-to-Volume, Inventory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card ID is used to the controller configure Sensor dri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9EF8-B44C-4D58-9EAF-6E549178B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odify the name of the sensor. HTML characters are auto-blocked.. &lt; &gt;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override the calculated calibration OFFSET &amp; GAIN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t GAIN = 0 &amp; OFFSET = Desired Sensor Value. Handy for demos, verifying control response &amp; isolating a sensor from its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ntrol the digits after the decimal point. pH = 2 &amp; you can see the tower cycle up. Inventory = 3 &amp; you can effect pumping mL (10mL about 0.003 Gall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ngle temperature input can be used to compensate more than one sensor, for control, to generate alarms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fault thermal compensation rate works for typical cooling waters. If you don’t compensate a 10F change in water temperature is 10% conductivity measure error. 150uS @ 1500uS set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mention TDS unless queried. Conductivity tracks TD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conductivity is thermally compensated. It ain’t technically correct but it’s convention in our business.  Yes you can set units = ppm (TDS) since one multiplier works for most towers but you’ll get calibration err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1DEA8-C430-4D8E-9FF0-5EDA0D1CCD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8A2F-02E6-4272-98D2-9EAEE88E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C9B7-CE36-4836-BCEF-33537250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50D8-C764-4F7D-85DF-884142697C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F55F-9190-4861-8EF0-9FB16D95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7D41C-4651-41FE-B4E8-281035D6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0DD20-FE44-4A0F-A116-DB7678EF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CA375-5AD5-46EA-B494-B00EF693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E16D-8864-490A-A1E7-BDDBEC4C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BCA36-7B01-4D69-A842-AFAB2508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9915-E118-407D-928F-C01202D3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700FD-B382-46E7-8C8B-CB1965C7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D071-BF94-4435-BC71-2F752DA4230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2" name="Rectangle 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91" name="Freeform 3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93" name="Freeform 5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Line 9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5938920" y="1100160"/>
            <a:ext cx="2229840" cy="122040"/>
            <a:chOff x="5938920" y="1100160"/>
            <a:chExt cx="2229840" cy="122040"/>
          </a:xfrm>
        </p:grpSpPr>
        <p:sp>
          <p:nvSpPr>
            <p:cNvPr id="99" name="Rectangle 64"/>
            <p:cNvSpPr/>
            <p:nvPr/>
          </p:nvSpPr>
          <p:spPr>
            <a:xfrm>
              <a:off x="59389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65"/>
            <p:cNvSpPr/>
            <p:nvPr/>
          </p:nvSpPr>
          <p:spPr>
            <a:xfrm>
              <a:off x="600084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6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6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6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69"/>
            <p:cNvSpPr/>
            <p:nvPr/>
          </p:nvSpPr>
          <p:spPr>
            <a:xfrm>
              <a:off x="622368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70"/>
            <p:cNvSpPr/>
            <p:nvPr/>
          </p:nvSpPr>
          <p:spPr>
            <a:xfrm>
              <a:off x="626868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7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7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7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7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7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7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7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7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79"/>
            <p:cNvSpPr/>
            <p:nvPr/>
          </p:nvSpPr>
          <p:spPr>
            <a:xfrm>
              <a:off x="676872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8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8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8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8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8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8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8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8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8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8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9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91"/>
            <p:cNvSpPr/>
            <p:nvPr/>
          </p:nvSpPr>
          <p:spPr>
            <a:xfrm>
              <a:off x="747468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9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9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9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9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9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9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9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99"/>
            <p:cNvSpPr/>
            <p:nvPr/>
          </p:nvSpPr>
          <p:spPr>
            <a:xfrm>
              <a:off x="78649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0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0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0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03"/>
            <p:cNvSpPr/>
            <p:nvPr/>
          </p:nvSpPr>
          <p:spPr>
            <a:xfrm>
              <a:off x="81237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Line 52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05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106"/>
          <p:cNvSpPr/>
          <p:nvPr/>
        </p:nvSpPr>
        <p:spPr>
          <a:xfrm>
            <a:off x="633240" y="320688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55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IMG_7458"/>
          <p:cNvPicPr/>
          <p:nvPr/>
        </p:nvPicPr>
        <p:blipFill>
          <a:blip r:embed="rId1"/>
          <a:stretch/>
        </p:blipFill>
        <p:spPr>
          <a:xfrm>
            <a:off x="533520" y="1219320"/>
            <a:ext cx="8109000" cy="54100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7"/>
          <p:cNvSpPr/>
          <p:nvPr/>
        </p:nvSpPr>
        <p:spPr>
          <a:xfrm>
            <a:off x="3058920" y="45720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monia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35252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304920" y="1066680"/>
          <a:ext cx="85341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-20mA Output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0984-36FD-480B-882D-43E48FC8CE9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125244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190440" y="1219320"/>
          <a:ext cx="876312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219320"/>
                    <a:ext cx="87631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: Password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6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426D-A9D7-4AD2-9235-9CE3D840B829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Mar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7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nicipal water plant chloramination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astewater of gas scrub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astewater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mmonia leaks in cooling t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food sector, e. g. for wine and b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abora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3F52-7883-4570-A43C-0C1A4D38DB4E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am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Content Placeholder 4" descr="chloramine process.jpg"/>
          <p:cNvPicPr/>
          <p:nvPr/>
        </p:nvPicPr>
        <p:blipFill>
          <a:blip r:embed="rId1"/>
          <a:stretch/>
        </p:blipFill>
        <p:spPr>
          <a:xfrm>
            <a:off x="762120" y="2438280"/>
            <a:ext cx="7250040" cy="3565800"/>
          </a:xfrm>
          <a:prstGeom prst="rect">
            <a:avLst/>
          </a:prstGeom>
          <a:ln w="0">
            <a:noFill/>
          </a:ln>
        </p:spPr>
      </p:pic>
      <p:sp>
        <p:nvSpPr>
          <p:cNvPr id="240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E971-D704-477B-890E-0B8A98E93E3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1600200" y="1219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 vs.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F6AD-60E1-4E1E-AF5F-70600CB98778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ammonia ph.jpg"/>
          <p:cNvPicPr/>
          <p:nvPr/>
        </p:nvPicPr>
        <p:blipFill>
          <a:blip r:embed="rId1"/>
          <a:stretch/>
        </p:blipFill>
        <p:spPr>
          <a:xfrm>
            <a:off x="1447920" y="1371600"/>
            <a:ext cx="5521320" cy="36576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8"/>
          <p:cNvSpPr/>
          <p:nvPr/>
        </p:nvSpPr>
        <p:spPr>
          <a:xfrm>
            <a:off x="0" y="52614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Neue-Roman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Neue-Roman"/>
                <a:ea typeface="Times New Roman"/>
              </a:rPr>
              <a:t>Only NH4+ ions (ammonium) are present at pH &lt;7</a:t>
            </a:r>
            <a:r>
              <a:rPr b="0" lang="en-US" sz="2000" spc="-1" strike="noStrike">
                <a:solidFill>
                  <a:srgbClr val="000000"/>
                </a:solidFill>
                <a:latin typeface="HelveticaNeue-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Neue-Roman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Neue-Roman"/>
                <a:ea typeface="Times New Roman"/>
              </a:rPr>
              <a:t>The ratio of NH4+ ions (ammonium) to NH3 (ammonia) is 1:1 at pH 9.3</a:t>
            </a:r>
            <a:r>
              <a:rPr b="0" lang="en-US" sz="2000" spc="-1" strike="noStrike">
                <a:solidFill>
                  <a:srgbClr val="000000"/>
                </a:solidFill>
                <a:latin typeface="HelveticaNeue-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Neue-Roman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Neue-Roman"/>
                <a:ea typeface="Times New Roman"/>
              </a:rPr>
              <a:t>Only NH3 (ammonia) is present at pH &gt;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CL vs. pH (Hach sl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Content Placeholder 4" descr="HOCL.JPG"/>
          <p:cNvPicPr/>
          <p:nvPr/>
        </p:nvPicPr>
        <p:blipFill>
          <a:blip r:embed="rId1"/>
          <a:stretch/>
        </p:blipFill>
        <p:spPr>
          <a:xfrm>
            <a:off x="1447920" y="1981080"/>
            <a:ext cx="5673600" cy="3475080"/>
          </a:xfrm>
          <a:prstGeom prst="rect">
            <a:avLst/>
          </a:prstGeom>
          <a:ln w="0">
            <a:noFill/>
          </a:ln>
        </p:spPr>
      </p:pic>
      <p:sp>
        <p:nvSpPr>
          <p:cNvPr id="249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7627-DBA2-4894-9DC2-1F8E9264A06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 Chloram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Content Placeholder 4" descr="ph Chloramine.jpg"/>
          <p:cNvPicPr/>
          <p:nvPr/>
        </p:nvPicPr>
        <p:blipFill>
          <a:blip r:embed="rId1"/>
          <a:stretch/>
        </p:blipFill>
        <p:spPr>
          <a:xfrm>
            <a:off x="1506600" y="2033640"/>
            <a:ext cx="5772240" cy="380052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F9F3-FC2C-4733-9568-384AE02A205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ion time vs. 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Content Placeholder 4" descr="Reaction time.jpg"/>
          <p:cNvPicPr/>
          <p:nvPr/>
        </p:nvPicPr>
        <p:blipFill>
          <a:blip r:embed="rId1"/>
          <a:stretch/>
        </p:blipFill>
        <p:spPr>
          <a:xfrm>
            <a:off x="152280" y="2209680"/>
            <a:ext cx="8622000" cy="3108600"/>
          </a:xfrm>
          <a:prstGeom prst="rect">
            <a:avLst/>
          </a:prstGeom>
          <a:ln w="0">
            <a:noFill/>
          </a:ln>
        </p:spPr>
      </p:pic>
      <p:sp>
        <p:nvSpPr>
          <p:cNvPr id="255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2762-A6F6-4D2C-B715-3956451FD7B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amination Chemistry (Hach sl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Content Placeholder 4" descr="chloramination chemistry.jpg"/>
          <p:cNvPicPr/>
          <p:nvPr/>
        </p:nvPicPr>
        <p:blipFill>
          <a:blip r:embed="rId1"/>
          <a:stretch/>
        </p:blipFill>
        <p:spPr>
          <a:xfrm>
            <a:off x="539640" y="1782720"/>
            <a:ext cx="7704360" cy="430056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5056-345C-4725-82C4-D5A137EB6C6F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711360" y="617220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Fastest formation of chloramine occurs at pH 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amination curve (Hach sl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Content Placeholder 4" descr="chloramination curve1.jpg"/>
          <p:cNvPicPr/>
          <p:nvPr/>
        </p:nvPicPr>
        <p:blipFill>
          <a:blip r:embed="rId1"/>
          <a:stretch/>
        </p:blipFill>
        <p:spPr>
          <a:xfrm>
            <a:off x="614520" y="1627200"/>
            <a:ext cx="7553160" cy="4610160"/>
          </a:xfrm>
          <a:prstGeom prst="rect">
            <a:avLst/>
          </a:prstGeom>
          <a:ln w="0">
            <a:noFill/>
          </a:ln>
        </p:spPr>
      </p:pic>
      <p:sp>
        <p:nvSpPr>
          <p:cNvPr id="262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BFBA-1D0D-4F14-A5B0-61E4A7DD9D9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 pan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1FFB-84F7-46F7-8571-BFF36D77A1E2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plumbing.jpg"/>
          <p:cNvPicPr/>
          <p:nvPr/>
        </p:nvPicPr>
        <p:blipFill>
          <a:blip r:embed="rId1"/>
          <a:stretch/>
        </p:blipFill>
        <p:spPr>
          <a:xfrm>
            <a:off x="533520" y="1295280"/>
            <a:ext cx="7956360" cy="49374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6"/>
          <p:cNvSpPr/>
          <p:nvPr/>
        </p:nvSpPr>
        <p:spPr>
          <a:xfrm>
            <a:off x="577080" y="6172200"/>
            <a:ext cx="73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At ambient temperature Ammonia is lighter tha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amination curve (cont.) (Hach sl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Content Placeholder 4" descr="chloramination curve2.jpg"/>
          <p:cNvPicPr/>
          <p:nvPr/>
        </p:nvPicPr>
        <p:blipFill>
          <a:blip r:embed="rId1"/>
          <a:stretch/>
        </p:blipFill>
        <p:spPr>
          <a:xfrm>
            <a:off x="576360" y="1614600"/>
            <a:ext cx="7629480" cy="4638600"/>
          </a:xfrm>
          <a:prstGeom prst="rect">
            <a:avLst/>
          </a:prstGeom>
          <a:ln w="0">
            <a:noFill/>
          </a:ln>
        </p:spPr>
      </p:pic>
      <p:sp>
        <p:nvSpPr>
          <p:cNvPr id="265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7EBD-5556-432B-8018-7695825625E5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amination curve (cont.) (hach sl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Content Placeholder 4" descr="chloramination curve3.jpg"/>
          <p:cNvPicPr/>
          <p:nvPr/>
        </p:nvPicPr>
        <p:blipFill>
          <a:blip r:embed="rId1"/>
          <a:stretch/>
        </p:blipFill>
        <p:spPr>
          <a:xfrm>
            <a:off x="539640" y="1697040"/>
            <a:ext cx="7704360" cy="4471920"/>
          </a:xfrm>
          <a:prstGeom prst="rect">
            <a:avLst/>
          </a:prstGeom>
          <a:ln w="0">
            <a:noFill/>
          </a:ln>
        </p:spPr>
      </p:pic>
      <p:sp>
        <p:nvSpPr>
          <p:cNvPr id="268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7E23-A9E2-419F-92EE-F84B1E13CFA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amination species (Hach sl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Content Placeholder 4" descr="chloramination curve4.jpg"/>
          <p:cNvPicPr/>
          <p:nvPr/>
        </p:nvPicPr>
        <p:blipFill>
          <a:blip r:embed="rId1"/>
          <a:stretch/>
        </p:blipFill>
        <p:spPr>
          <a:xfrm>
            <a:off x="652320" y="1671480"/>
            <a:ext cx="7477200" cy="4524480"/>
          </a:xfrm>
          <a:prstGeom prst="rect">
            <a:avLst/>
          </a:prstGeom>
          <a:ln w="0">
            <a:noFill/>
          </a:ln>
        </p:spPr>
      </p:pic>
      <p:sp>
        <p:nvSpPr>
          <p:cNvPr id="271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11AB-E573-4A96-A718-C4A3FC687DF3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 on scre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Content Placeholder 4" descr="home.jpg"/>
          <p:cNvPicPr/>
          <p:nvPr/>
        </p:nvPicPr>
        <p:blipFill>
          <a:blip r:embed="rId1"/>
          <a:stretch/>
        </p:blipFill>
        <p:spPr>
          <a:xfrm>
            <a:off x="690480" y="1719360"/>
            <a:ext cx="7400880" cy="4429080"/>
          </a:xfrm>
          <a:prstGeom prst="rect">
            <a:avLst/>
          </a:prstGeom>
          <a:ln w="0">
            <a:noFill/>
          </a:ln>
        </p:spPr>
      </p:pic>
      <p:sp>
        <p:nvSpPr>
          <p:cNvPr id="196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05F9-01D6-412E-A6DB-EB60FC612C8C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sensors and outpu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Content Placeholder 4" descr="sensors.jpg"/>
          <p:cNvPicPr/>
          <p:nvPr/>
        </p:nvPicPr>
        <p:blipFill>
          <a:blip r:embed="rId1"/>
          <a:stretch/>
        </p:blipFill>
        <p:spPr>
          <a:xfrm>
            <a:off x="2173320" y="1909800"/>
            <a:ext cx="4438440" cy="40482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6A27-E641-404C-BE87-FD34A7AB78A7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440" y="-1960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1440" y="8180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79"/>
          <p:cNvGraphicFramePr/>
          <p:nvPr/>
        </p:nvGraphicFramePr>
        <p:xfrm>
          <a:off x="533520" y="1390680"/>
          <a:ext cx="7543800" cy="54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90680"/>
                    <a:ext cx="754380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s: User test &amp; Sensor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7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0108-8AD3-479E-85C0-EE1224C19151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0" y="152280"/>
            <a:ext cx="2666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2590920" y="160200"/>
          <a:ext cx="5553000" cy="653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0200"/>
                    <a:ext cx="5553000" cy="65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g &amp; Play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CB8D-AE0E-4506-83B6-14B293B6CBCD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15360" y="1676520"/>
            <a:ext cx="2315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Am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= 4-20 mA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 4-20 mA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=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inent pt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n = 0.11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 = -19.47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139536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0" y="1371600"/>
          <a:ext cx="8991720" cy="47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99172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-i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1D72-5285-4444-98D8-4B2DDAFFDFE6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3"/>
          <p:cNvGraphicFramePr/>
          <p:nvPr/>
        </p:nvGraphicFramePr>
        <p:xfrm>
          <a:off x="685800" y="685800"/>
          <a:ext cx="723744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2374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0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or Diagnostic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58E6-E99B-4CE9-B169-8A4580FFAE1A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Object 3"/>
          <p:cNvGraphicFramePr/>
          <p:nvPr/>
        </p:nvGraphicFramePr>
        <p:xfrm>
          <a:off x="380880" y="1066680"/>
          <a:ext cx="8382240" cy="611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382240" cy="611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or Compensa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451A-D554-4541-9E42-42A89CB10690}" type="slidenum">
              <a:rPr b="0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23:20:15Z</dcterms:created>
  <dc:creator>Ed Hill</dc:creator>
  <dc:description/>
  <dc:language>en-US</dc:language>
  <cp:lastModifiedBy>edo</cp:lastModifiedBy>
  <dcterms:modified xsi:type="dcterms:W3CDTF">2009-12-10T18:06:52Z</dcterms:modified>
  <cp:revision>102</cp:revision>
  <dc:subject/>
  <dc:title>PowerPoint Presentation</dc:title>
</cp:coreProperties>
</file>